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ct" ContentType="image/x-pict"/>
  <Override PartName="/ppt/media/image14.pct" ContentType="image/x-pict"/>
  <Override PartName="/ppt/media/image6.png" ContentType="image/png"/>
  <Override PartName="/ppt/media/image17.pct" ContentType="image/x-pict"/>
  <Override PartName="/ppt/media/image20.pct" ContentType="image/x-pict"/>
  <Override PartName="/ppt/media/image7.png" ContentType="image/png"/>
  <Override PartName="/ppt/media/image22.jpeg" ContentType="image/jpeg"/>
  <Override PartName="/ppt/media/image9.jpeg" ContentType="image/jpeg"/>
  <Override PartName="/ppt/media/image3.png" ContentType="image/png"/>
  <Override PartName="/ppt/media/image30.pct" ContentType="image/x-pict"/>
  <Override PartName="/ppt/media/image23.jpeg" ContentType="image/jpeg"/>
  <Override PartName="/ppt/media/image28.pct" ContentType="image/x-pict"/>
  <Override PartName="/ppt/media/image8.jpeg" ContentType="image/jpeg"/>
  <Override PartName="/ppt/media/image10.jpeg" ContentType="image/jpeg"/>
  <Override PartName="/ppt/media/image11.pct" ContentType="image/x-pict"/>
  <Override PartName="/ppt/media/image12.pct" ContentType="image/x-pict"/>
  <Override PartName="/ppt/media/image5.png" ContentType="image/png"/>
  <Override PartName="/ppt/media/image2.pct" ContentType="image/x-pict"/>
  <Override PartName="/ppt/media/image25.pct" ContentType="image/x-pict"/>
  <Override PartName="/ppt/media/image4.png" ContentType="image/png"/>
  <Override PartName="/ppt/media/image1.pct" ContentType="image/x-pict"/>
  <Override PartName="/ppt/media/image13.pct" ContentType="image/x-pict"/>
  <Override PartName="/ppt/media/image16.png" ContentType="image/png"/>
  <Override PartName="/ppt/media/image15.pct" ContentType="image/x-pict"/>
  <Override PartName="/ppt/media/image18.png" ContentType="image/png"/>
  <Override PartName="/ppt/media/image19.png" ContentType="image/png"/>
  <Override PartName="/ppt/media/image21.jpeg" ContentType="image/jpeg"/>
  <Override PartName="/ppt/media/image24.jpeg" ContentType="image/jpeg"/>
  <Override PartName="/ppt/media/image26.jpeg" ContentType="image/jpeg"/>
  <Override PartName="/ppt/media/image27.pct" ContentType="image/x-pi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826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2600" indent="-22860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39800" indent="-228600">
              <a:spcBef>
                <a:spcPts val="499"/>
              </a:spcBef>
              <a:buClr>
                <a:srgbClr val="000000"/>
              </a:buClr>
              <a:buFont typeface="Lucida Grand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97000" indent="-228600">
              <a:spcBef>
                <a:spcPts val="499"/>
              </a:spcBef>
              <a:buClr>
                <a:srgbClr val="000000"/>
              </a:buClr>
              <a:buFont typeface="Lucida Grande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97000" indent="-228600">
              <a:spcBef>
                <a:spcPts val="499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97000" indent="-228600">
              <a:spcBef>
                <a:spcPts val="499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image" Target="../media/image15.pct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ct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pct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5.pct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7.pct"/><Relationship Id="rId2" Type="http://schemas.openxmlformats.org/officeDocument/2006/relationships/image" Target="../media/image28.pct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9.pct"/><Relationship Id="rId2" Type="http://schemas.openxmlformats.org/officeDocument/2006/relationships/image" Target="../media/image30.pct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-304920" y="1320840"/>
            <a:ext cx="1012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85ff"/>
                </a:solidFill>
                <a:latin typeface="Arial"/>
                <a:ea typeface="Arial"/>
              </a:rPr>
              <a:t>Methods for Studying the Cell Cy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2095560" y="1816200"/>
            <a:ext cx="495288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cell fus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live and fixed imag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2824920" y="3187800"/>
            <a:ext cx="348156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geneti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biochemist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in vitro syste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88920" y="5130720"/>
            <a:ext cx="8953560" cy="11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inhibitors of cellular proces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(transcription, replication, microtubule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5280" y="228600"/>
            <a:ext cx="887760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  <a:ea typeface="Arial"/>
              </a:rPr>
              <a:t>DISCUSSION SECTIONS BY STUDENT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  <a:ea typeface="Arial"/>
              </a:rPr>
              <a:t>ENDING IN ODD NUMBERS 2-3, EVEN 3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356120" y="266760"/>
            <a:ext cx="6427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85ff"/>
                </a:solidFill>
                <a:latin typeface="Arial"/>
                <a:ea typeface="Arial"/>
              </a:rPr>
              <a:t>3 major elements of the cytoskelet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37960" y="965160"/>
            <a:ext cx="5677200" cy="28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ddf9"/>
                </a:solidFill>
                <a:latin typeface="Arial"/>
                <a:ea typeface="Arial"/>
              </a:rPr>
              <a:t>intermediate filament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0 nm dia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ibrous – resistant to shear force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uctural – prominent in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ject to mechanical stre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imentin, nuclear lam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rcRect l="6687" t="13430" r="65249" b="13521"/>
          <a:stretch/>
        </p:blipFill>
        <p:spPr>
          <a:xfrm>
            <a:off x="5918040" y="762120"/>
            <a:ext cx="2552760" cy="49402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rcRect l="0" t="11501" r="67528" b="233"/>
          <a:stretch/>
        </p:blipFill>
        <p:spPr>
          <a:xfrm rot="16200000">
            <a:off x="1796760" y="3417120"/>
            <a:ext cx="2606760" cy="363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rcRect l="1366372" t="559609" r="0" b="125267"/>
          <a:stretch/>
        </p:blipFill>
        <p:spPr>
          <a:xfrm>
            <a:off x="914400" y="0"/>
            <a:ext cx="7315200" cy="68324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794640" y="3505320"/>
            <a:ext cx="2070000" cy="3553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6807240" y="3962520"/>
            <a:ext cx="2235240" cy="3934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6718320" y="3048120"/>
            <a:ext cx="2184480" cy="3808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6819840" y="4419720"/>
            <a:ext cx="1981440" cy="46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80880" y="190440"/>
            <a:ext cx="8382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85ff"/>
                </a:solidFill>
                <a:latin typeface="Arial"/>
                <a:ea typeface="Arial"/>
              </a:rPr>
              <a:t>Introduction to polymer dynamics: 3 c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38760" y="2070000"/>
            <a:ext cx="4640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) simple equilibrium poly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4040" y="3162240"/>
            <a:ext cx="678204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) polar polymers: asymmetric subun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ndergo conformational change during assemb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9440" y="4753080"/>
            <a:ext cx="88275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3) complex polymers: non-equilibr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     </a:t>
            </a:r>
            <a:r>
              <a:rPr b="0" lang="en-US" sz="3600" spc="-1" strike="noStrike">
                <a:solidFill>
                  <a:srgbClr val="ffffff"/>
                </a:solidFill>
                <a:latin typeface="Hoefler Text Ornaments"/>
                <a:ea typeface="Hoefler Text Ornaments"/>
              </a:rPr>
              <a:t>☞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unit nucleotide hydrolysis (energy inp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6135840" y="3976560"/>
            <a:ext cx="3033360" cy="893880"/>
            <a:chOff x="6135840" y="3976560"/>
            <a:chExt cx="3033360" cy="893880"/>
          </a:xfrm>
        </p:grpSpPr>
        <p:sp>
          <p:nvSpPr>
            <p:cNvPr id="95" name=""/>
            <p:cNvSpPr/>
            <p:nvPr/>
          </p:nvSpPr>
          <p:spPr>
            <a:xfrm>
              <a:off x="6933240" y="4070160"/>
              <a:ext cx="223596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ff"/>
                  </a:solidFill>
                  <a:latin typeface="Arial"/>
                  <a:ea typeface="Arial"/>
                </a:rPr>
                <a:t>actin 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ff"/>
                  </a:solidFill>
                  <a:latin typeface="Arial"/>
                  <a:ea typeface="Arial"/>
                </a:rPr>
                <a:t>microtubu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flipV="1">
              <a:off x="6310080" y="3976560"/>
              <a:ext cx="609480" cy="303120"/>
            </a:xfrm>
            <a:prstGeom prst="line">
              <a:avLst/>
            </a:prstGeom>
            <a:ln w="633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6135840" y="4653000"/>
              <a:ext cx="730080" cy="169560"/>
            </a:xfrm>
            <a:prstGeom prst="line">
              <a:avLst/>
            </a:prstGeom>
            <a:ln w="633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76320" y="10414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assembles &amp; disassembles by addition &amp; loss of subunits at en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ates = </a:t>
            </a:r>
            <a:r>
              <a:rPr b="1" lang="en-US" sz="2400" spc="-1" strike="noStrike">
                <a:solidFill>
                  <a:srgbClr val="00a7ff"/>
                </a:solidFill>
                <a:latin typeface="Arial"/>
                <a:ea typeface="Arial"/>
              </a:rPr>
              <a:t>K</a:t>
            </a:r>
            <a:r>
              <a:rPr b="1" lang="en-US" sz="2800" spc="-1" strike="noStrike" baseline="-25000">
                <a:solidFill>
                  <a:srgbClr val="00a7ff"/>
                </a:solidFill>
                <a:latin typeface="Arial"/>
                <a:ea typeface="Arial"/>
              </a:rPr>
              <a:t>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and 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  <a:ea typeface="Arial"/>
              </a:rPr>
              <a:t>K</a:t>
            </a:r>
            <a:r>
              <a:rPr b="1" lang="en-US" sz="2800" spc="-1" strike="noStrike" baseline="-25000">
                <a:solidFill>
                  <a:srgbClr val="ff00ff"/>
                </a:solidFill>
                <a:latin typeface="Arial"/>
                <a:ea typeface="Arial"/>
              </a:rPr>
              <a:t>o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320" y="5207040"/>
            <a:ext cx="906768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7ff"/>
                </a:solidFill>
                <a:latin typeface="Arial"/>
                <a:ea typeface="Arial"/>
              </a:rPr>
              <a:t>K</a:t>
            </a:r>
            <a:r>
              <a:rPr b="1" lang="en-US" sz="2800" spc="-1" strike="noStrike" baseline="-25000">
                <a:solidFill>
                  <a:srgbClr val="00a7ff"/>
                </a:solidFill>
                <a:latin typeface="Arial"/>
                <a:ea typeface="Arial"/>
              </a:rPr>
              <a:t>on</a:t>
            </a:r>
            <a:r>
              <a:rPr b="1" lang="en-US" sz="2400" spc="-1" strike="noStrike">
                <a:solidFill>
                  <a:srgbClr val="00a7ff"/>
                </a:solidFill>
                <a:latin typeface="Arial"/>
                <a:ea typeface="Arial"/>
              </a:rPr>
              <a:t> depends on concentration of subunit, units of M</a:t>
            </a:r>
            <a:r>
              <a:rPr b="1" lang="en-US" sz="2400" spc="-1" strike="noStrike" baseline="30000">
                <a:solidFill>
                  <a:srgbClr val="00a7ff"/>
                </a:solidFill>
                <a:latin typeface="Arial"/>
                <a:ea typeface="Arial"/>
              </a:rPr>
              <a:t>-1</a:t>
            </a:r>
            <a:r>
              <a:rPr b="1" lang="en-US" sz="2400" spc="-1" strike="noStrike">
                <a:solidFill>
                  <a:srgbClr val="00a7ff"/>
                </a:solidFill>
                <a:latin typeface="Arial"/>
                <a:ea typeface="Arial"/>
              </a:rPr>
              <a:t>sec</a:t>
            </a:r>
            <a:r>
              <a:rPr b="1" lang="en-US" sz="2400" spc="-1" strike="noStrike" baseline="30000">
                <a:solidFill>
                  <a:srgbClr val="00a7ff"/>
                </a:solidFill>
                <a:latin typeface="Arial"/>
                <a:ea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  <a:ea typeface="Arial"/>
              </a:rPr>
              <a:t>K</a:t>
            </a:r>
            <a:r>
              <a:rPr b="1" lang="en-US" sz="2800" spc="-1" strike="noStrike" baseline="-25000">
                <a:solidFill>
                  <a:srgbClr val="ff00ff"/>
                </a:solidFill>
                <a:latin typeface="Arial"/>
                <a:ea typeface="Arial"/>
              </a:rPr>
              <a:t>off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  <a:ea typeface="Arial"/>
              </a:rPr>
              <a:t> does not (unimolecular), units of sec</a:t>
            </a:r>
            <a:r>
              <a:rPr b="1" lang="en-US" sz="2400" spc="-1" strike="noStrike" baseline="30000">
                <a:solidFill>
                  <a:srgbClr val="ff00ff"/>
                </a:solidFill>
                <a:latin typeface="Arial"/>
                <a:ea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11120" y="177840"/>
            <a:ext cx="4797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85ff"/>
                </a:solidFill>
                <a:latin typeface="Arial"/>
                <a:ea typeface="Arial"/>
              </a:rPr>
              <a:t>Simple Equilibrium Poly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676520" y="2489040"/>
            <a:ext cx="5557680" cy="2286000"/>
            <a:chOff x="1676520" y="2489040"/>
            <a:chExt cx="5557680" cy="2286000"/>
          </a:xfrm>
        </p:grpSpPr>
        <p:sp>
          <p:nvSpPr>
            <p:cNvPr id="102" name=""/>
            <p:cNvSpPr/>
            <p:nvPr/>
          </p:nvSpPr>
          <p:spPr>
            <a:xfrm>
              <a:off x="1676520" y="2489040"/>
              <a:ext cx="660240" cy="657360"/>
            </a:xfrm>
            <a:prstGeom prst="rect">
              <a:avLst/>
            </a:prstGeom>
            <a:solidFill>
              <a:srgbClr val="f9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276720" y="2514600"/>
              <a:ext cx="658800" cy="655560"/>
            </a:xfrm>
            <a:prstGeom prst="rect">
              <a:avLst/>
            </a:prstGeom>
            <a:solidFill>
              <a:srgbClr val="ff5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935520" y="2514600"/>
              <a:ext cx="660240" cy="655560"/>
            </a:xfrm>
            <a:prstGeom prst="rect">
              <a:avLst/>
            </a:prstGeom>
            <a:solidFill>
              <a:srgbClr val="ff5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595760" y="2514600"/>
              <a:ext cx="659160" cy="655560"/>
            </a:xfrm>
            <a:prstGeom prst="rect">
              <a:avLst/>
            </a:prstGeom>
            <a:solidFill>
              <a:srgbClr val="ff5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254920" y="2514600"/>
              <a:ext cx="660240" cy="655560"/>
            </a:xfrm>
            <a:prstGeom prst="rect">
              <a:avLst/>
            </a:prstGeom>
            <a:solidFill>
              <a:srgbClr val="ff5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915160" y="2514600"/>
              <a:ext cx="658800" cy="655560"/>
            </a:xfrm>
            <a:prstGeom prst="rect">
              <a:avLst/>
            </a:prstGeom>
            <a:solidFill>
              <a:srgbClr val="ff5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573960" y="2514600"/>
              <a:ext cx="660240" cy="655560"/>
            </a:xfrm>
            <a:prstGeom prst="rect">
              <a:avLst/>
            </a:prstGeom>
            <a:solidFill>
              <a:srgbClr val="ff5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563920" y="4114800"/>
              <a:ext cx="658800" cy="660240"/>
            </a:xfrm>
            <a:prstGeom prst="rect">
              <a:avLst/>
            </a:prstGeom>
            <a:solidFill>
              <a:srgbClr val="ff5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22720" y="4114800"/>
              <a:ext cx="658800" cy="660240"/>
            </a:xfrm>
            <a:prstGeom prst="rect">
              <a:avLst/>
            </a:prstGeom>
            <a:solidFill>
              <a:srgbClr val="ff5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81520" y="4114800"/>
              <a:ext cx="658800" cy="660240"/>
            </a:xfrm>
            <a:prstGeom prst="rect">
              <a:avLst/>
            </a:prstGeom>
            <a:solidFill>
              <a:srgbClr val="ff5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540320" y="4114800"/>
              <a:ext cx="658800" cy="660240"/>
            </a:xfrm>
            <a:prstGeom prst="rect">
              <a:avLst/>
            </a:prstGeom>
            <a:solidFill>
              <a:srgbClr val="ff5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199120" y="4114800"/>
              <a:ext cx="658800" cy="660240"/>
            </a:xfrm>
            <a:prstGeom prst="rect">
              <a:avLst/>
            </a:prstGeom>
            <a:solidFill>
              <a:srgbClr val="ff5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857920" y="4114800"/>
              <a:ext cx="658800" cy="660240"/>
            </a:xfrm>
            <a:prstGeom prst="rect">
              <a:avLst/>
            </a:prstGeom>
            <a:solidFill>
              <a:srgbClr val="ff5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05120" y="4114800"/>
              <a:ext cx="658800" cy="660240"/>
            </a:xfrm>
            <a:prstGeom prst="rect">
              <a:avLst/>
            </a:prstGeom>
            <a:solidFill>
              <a:srgbClr val="f9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778120" y="2666880"/>
              <a:ext cx="1800" cy="2221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2666520" y="2775960"/>
              <a:ext cx="222120" cy="18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733920" y="3352680"/>
              <a:ext cx="1440" cy="585720"/>
            </a:xfrm>
            <a:prstGeom prst="line">
              <a:avLst/>
            </a:prstGeom>
            <a:ln w="63360">
              <a:solidFill>
                <a:srgbClr val="00a7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 flipV="1">
              <a:off x="4122360" y="3352320"/>
              <a:ext cx="1800" cy="585720"/>
            </a:xfrm>
            <a:prstGeom prst="line">
              <a:avLst/>
            </a:prstGeom>
            <a:ln w="633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343400" y="3429000"/>
              <a:ext cx="1143000" cy="38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590920" y="3429000"/>
              <a:ext cx="838080" cy="533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343400" y="3429000"/>
              <a:ext cx="1143000" cy="571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ff"/>
                  </a:solidFill>
                  <a:latin typeface="Arial"/>
                  <a:ea typeface="Arial"/>
                </a:rPr>
                <a:t>K</a:t>
              </a:r>
              <a:r>
                <a:rPr b="1" lang="en-US" sz="2800" spc="-1" strike="noStrike" baseline="-25000">
                  <a:solidFill>
                    <a:srgbClr val="ff00ff"/>
                  </a:solidFill>
                  <a:latin typeface="Arial"/>
                  <a:ea typeface="Arial"/>
                </a:rPr>
                <a:t>of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718000" y="3352680"/>
              <a:ext cx="838080" cy="571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a7ff"/>
                  </a:solidFill>
                  <a:latin typeface="Arial"/>
                  <a:ea typeface="Arial"/>
                </a:rPr>
                <a:t>K</a:t>
              </a:r>
              <a:r>
                <a:rPr b="1" lang="en-US" sz="2800" spc="-1" strike="noStrike" baseline="-25000">
                  <a:solidFill>
                    <a:srgbClr val="00a7ff"/>
                  </a:solidFill>
                  <a:latin typeface="Arial"/>
                  <a:ea typeface="Arial"/>
                </a:rPr>
                <a:t>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30120" y="1917720"/>
            <a:ext cx="7290000" cy="34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07520" y="711360"/>
            <a:ext cx="60490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) </a:t>
            </a:r>
            <a:r>
              <a:rPr b="1" lang="en-US" sz="2400" spc="-1" strike="noStrike">
                <a:solidFill>
                  <a:srgbClr val="ff1b36"/>
                </a:solidFill>
                <a:latin typeface="Arial"/>
                <a:ea typeface="Arial"/>
              </a:rPr>
              <a:t>lag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due to kinetic barrier to nucle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) </a:t>
            </a:r>
            <a:r>
              <a:rPr b="1" lang="en-US" sz="2400" spc="-1" strike="noStrike">
                <a:solidFill>
                  <a:srgbClr val="00d100"/>
                </a:solidFill>
                <a:latin typeface="Arial"/>
                <a:ea typeface="Arial"/>
              </a:rPr>
              <a:t>grow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3) </a:t>
            </a:r>
            <a:r>
              <a:rPr b="1" lang="en-US" sz="2400" spc="-1" strike="noStrike">
                <a:solidFill>
                  <a:srgbClr val="704dff"/>
                </a:solidFill>
                <a:latin typeface="Arial"/>
                <a:ea typeface="Arial"/>
              </a:rPr>
              <a:t>equilibr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2286000"/>
            <a:ext cx="0" cy="24382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133720" y="4724280"/>
            <a:ext cx="4800600" cy="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33720" y="2879640"/>
            <a:ext cx="4800600" cy="172080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9520" y="3200400"/>
            <a:ext cx="1470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[polymer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362320" y="3886200"/>
            <a:ext cx="766800" cy="51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62320" y="3886200"/>
            <a:ext cx="76176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0000"/>
                </a:solidFill>
                <a:latin typeface="Arial"/>
                <a:ea typeface="Arial"/>
              </a:rPr>
              <a:t>l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62520" y="3733920"/>
            <a:ext cx="121896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62520" y="3733920"/>
            <a:ext cx="12189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900"/>
                </a:solidFill>
                <a:latin typeface="Arial"/>
                <a:ea typeface="Arial"/>
              </a:rPr>
              <a:t>grow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562720" y="2209680"/>
            <a:ext cx="1909800" cy="51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562720" y="2209680"/>
            <a:ext cx="190476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00db"/>
                </a:solidFill>
                <a:latin typeface="Arial"/>
                <a:ea typeface="Arial"/>
              </a:rPr>
              <a:t>equilibr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176360" y="4851360"/>
            <a:ext cx="7088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967040" y="101520"/>
            <a:ext cx="5200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85ff"/>
                </a:solidFill>
                <a:latin typeface="Arial"/>
                <a:ea typeface="Arial"/>
              </a:rPr>
              <a:t>Polymer assembly timecou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620120" y="1600200"/>
            <a:ext cx="1307880" cy="15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ate of subunit addition = rate of l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3320" y="5423040"/>
            <a:ext cx="89406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olymer grows as time procee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unit concentration drops until </a:t>
            </a:r>
            <a:r>
              <a:rPr b="1" lang="en-US" sz="2400" spc="-1" strike="noStrike">
                <a:solidFill>
                  <a:srgbClr val="00a7ff"/>
                </a:solidFill>
                <a:latin typeface="Arial"/>
                <a:ea typeface="Arial"/>
              </a:rPr>
              <a:t>K</a:t>
            </a:r>
            <a:r>
              <a:rPr b="1" lang="en-US" sz="2800" spc="-1" strike="noStrike" baseline="-25000">
                <a:solidFill>
                  <a:srgbClr val="00a7ff"/>
                </a:solidFill>
                <a:latin typeface="Arial"/>
                <a:ea typeface="Arial"/>
              </a:rPr>
              <a:t>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[C] = 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  <a:ea typeface="Arial"/>
              </a:rPr>
              <a:t>K</a:t>
            </a:r>
            <a:r>
              <a:rPr b="1" lang="en-US" sz="2800" spc="-1" strike="noStrike" baseline="-25000">
                <a:solidFill>
                  <a:srgbClr val="ff00ff"/>
                </a:solidFill>
                <a:latin typeface="Arial"/>
                <a:ea typeface="Arial"/>
              </a:rPr>
              <a:t>off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[C] = critical concentration </a:t>
            </a:r>
            <a:r>
              <a:rPr b="1" lang="en-US" sz="2400" spc="-1" strike="noStrike">
                <a:solidFill>
                  <a:srgbClr val="00d100"/>
                </a:solidFill>
                <a:latin typeface="Arial"/>
                <a:ea typeface="Arial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741560" y="6261120"/>
            <a:ext cx="2923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(M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ec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[M] = sec 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2286000"/>
            <a:ext cx="9144000" cy="14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4724280"/>
            <a:ext cx="9144000" cy="18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09240" y="2481840"/>
            <a:ext cx="8402760" cy="2112120"/>
            <a:chOff x="309240" y="2481840"/>
            <a:chExt cx="8402760" cy="2112120"/>
          </a:xfrm>
        </p:grpSpPr>
        <p:sp>
          <p:nvSpPr>
            <p:cNvPr id="144" name=""/>
            <p:cNvSpPr/>
            <p:nvPr/>
          </p:nvSpPr>
          <p:spPr>
            <a:xfrm>
              <a:off x="4821120" y="3372120"/>
              <a:ext cx="484920" cy="502560"/>
            </a:xfrm>
            <a:prstGeom prst="rect">
              <a:avLst/>
            </a:prstGeom>
            <a:solidFill>
              <a:srgbClr val="ff5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306040" y="3372120"/>
              <a:ext cx="483120" cy="502560"/>
            </a:xfrm>
            <a:prstGeom prst="rect">
              <a:avLst/>
            </a:prstGeom>
            <a:solidFill>
              <a:srgbClr val="ff5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89160" y="3372120"/>
              <a:ext cx="484560" cy="502560"/>
            </a:xfrm>
            <a:prstGeom prst="rect">
              <a:avLst/>
            </a:prstGeom>
            <a:solidFill>
              <a:srgbClr val="ff5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273720" y="3372120"/>
              <a:ext cx="483120" cy="502560"/>
            </a:xfrm>
            <a:prstGeom prst="rect">
              <a:avLst/>
            </a:prstGeom>
            <a:solidFill>
              <a:srgbClr val="ff5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756840" y="3372120"/>
              <a:ext cx="484920" cy="502560"/>
            </a:xfrm>
            <a:prstGeom prst="rect">
              <a:avLst/>
            </a:prstGeom>
            <a:solidFill>
              <a:srgbClr val="ff5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957040" y="3372120"/>
              <a:ext cx="484920" cy="502560"/>
            </a:xfrm>
            <a:prstGeom prst="rect">
              <a:avLst/>
            </a:prstGeom>
            <a:solidFill>
              <a:srgbClr val="ff5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441960" y="3372120"/>
              <a:ext cx="483120" cy="502560"/>
            </a:xfrm>
            <a:prstGeom prst="rect">
              <a:avLst/>
            </a:prstGeom>
            <a:solidFill>
              <a:srgbClr val="ff5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925080" y="3372120"/>
              <a:ext cx="484560" cy="502560"/>
            </a:xfrm>
            <a:prstGeom prst="rect">
              <a:avLst/>
            </a:prstGeom>
            <a:solidFill>
              <a:srgbClr val="ff5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09640" y="3372120"/>
              <a:ext cx="483120" cy="502560"/>
            </a:xfrm>
            <a:prstGeom prst="rect">
              <a:avLst/>
            </a:prstGeom>
            <a:solidFill>
              <a:srgbClr val="ff5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9240" y="2573280"/>
              <a:ext cx="1804680" cy="4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a7ff"/>
                  </a:solidFill>
                  <a:latin typeface="Arial"/>
                  <a:ea typeface="Arial"/>
                </a:rPr>
                <a:t>K</a:t>
              </a:r>
              <a:r>
                <a:rPr b="1" lang="en-US" sz="2800" spc="-1" strike="noStrike" baseline="-25000">
                  <a:solidFill>
                    <a:srgbClr val="00a7ff"/>
                  </a:solidFill>
                  <a:latin typeface="Arial"/>
                  <a:ea typeface="Arial"/>
                </a:rPr>
                <a:t>on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[C] = </a:t>
              </a:r>
              <a:r>
                <a:rPr b="1" lang="en-US" sz="2400" spc="-1" strike="noStrike">
                  <a:solidFill>
                    <a:srgbClr val="ff00ff"/>
                  </a:solidFill>
                  <a:latin typeface="Arial"/>
                  <a:ea typeface="Arial"/>
                </a:rPr>
                <a:t>K</a:t>
              </a:r>
              <a:r>
                <a:rPr b="1" lang="en-US" sz="2800" spc="-1" strike="noStrike" baseline="-25000">
                  <a:solidFill>
                    <a:srgbClr val="ff00ff"/>
                  </a:solidFill>
                  <a:latin typeface="Arial"/>
                  <a:ea typeface="Arial"/>
                </a:rPr>
                <a:t>of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7347240" y="3452040"/>
              <a:ext cx="588240" cy="18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7347240" y="3859560"/>
              <a:ext cx="588240" cy="18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2142360" y="3452040"/>
              <a:ext cx="588240" cy="18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2142360" y="3859560"/>
              <a:ext cx="588240" cy="18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514760" y="4091400"/>
              <a:ext cx="484920" cy="502560"/>
            </a:xfrm>
            <a:prstGeom prst="rect">
              <a:avLst/>
            </a:prstGeom>
            <a:solidFill>
              <a:srgbClr val="ff5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1979400">
              <a:off x="6656760" y="2572920"/>
              <a:ext cx="484560" cy="502560"/>
            </a:xfrm>
            <a:prstGeom prst="rect">
              <a:avLst/>
            </a:prstGeom>
            <a:solidFill>
              <a:srgbClr val="ff5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299960" y="3611880"/>
              <a:ext cx="484920" cy="502560"/>
            </a:xfrm>
            <a:prstGeom prst="rect">
              <a:avLst/>
            </a:prstGeom>
            <a:solidFill>
              <a:srgbClr val="ff5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599400">
              <a:off x="8187120" y="3210840"/>
              <a:ext cx="484560" cy="502200"/>
            </a:xfrm>
            <a:prstGeom prst="rect">
              <a:avLst/>
            </a:prstGeom>
            <a:solidFill>
              <a:srgbClr val="ff5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21060000">
              <a:off x="3211920" y="2652840"/>
              <a:ext cx="484560" cy="502560"/>
            </a:xfrm>
            <a:prstGeom prst="rect">
              <a:avLst/>
            </a:prstGeom>
            <a:solidFill>
              <a:srgbClr val="ff5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362880" y="102960"/>
            <a:ext cx="7960680" cy="2066040"/>
            <a:chOff x="362880" y="102960"/>
            <a:chExt cx="7960680" cy="2066040"/>
          </a:xfrm>
        </p:grpSpPr>
        <p:sp>
          <p:nvSpPr>
            <p:cNvPr id="164" name=""/>
            <p:cNvSpPr/>
            <p:nvPr/>
          </p:nvSpPr>
          <p:spPr>
            <a:xfrm rot="20280000">
              <a:off x="7761240" y="677520"/>
              <a:ext cx="487080" cy="496800"/>
            </a:xfrm>
            <a:prstGeom prst="rect">
              <a:avLst/>
            </a:prstGeom>
            <a:solidFill>
              <a:srgbClr val="ff5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18540000">
              <a:off x="2835360" y="1554120"/>
              <a:ext cx="499680" cy="483840"/>
            </a:xfrm>
            <a:prstGeom prst="rect">
              <a:avLst/>
            </a:prstGeom>
            <a:solidFill>
              <a:srgbClr val="ff5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21240000">
              <a:off x="3686400" y="126720"/>
              <a:ext cx="486720" cy="496800"/>
            </a:xfrm>
            <a:prstGeom prst="rect">
              <a:avLst/>
            </a:prstGeom>
            <a:solidFill>
              <a:srgbClr val="ff5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996560" y="837360"/>
              <a:ext cx="486720" cy="496800"/>
            </a:xfrm>
            <a:prstGeom prst="rect">
              <a:avLst/>
            </a:prstGeom>
            <a:solidFill>
              <a:srgbClr val="ff5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239400">
              <a:off x="5994720" y="127080"/>
              <a:ext cx="487080" cy="496800"/>
            </a:xfrm>
            <a:prstGeom prst="rect">
              <a:avLst/>
            </a:prstGeom>
            <a:solidFill>
              <a:srgbClr val="ff5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720000">
              <a:off x="6761880" y="1626840"/>
              <a:ext cx="486720" cy="496800"/>
            </a:xfrm>
            <a:prstGeom prst="rect">
              <a:avLst/>
            </a:prstGeom>
            <a:solidFill>
              <a:srgbClr val="ff5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87840" y="916560"/>
              <a:ext cx="487080" cy="496800"/>
            </a:xfrm>
            <a:prstGeom prst="rect">
              <a:avLst/>
            </a:prstGeom>
            <a:solidFill>
              <a:srgbClr val="ff5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174920" y="916560"/>
              <a:ext cx="485280" cy="496800"/>
            </a:xfrm>
            <a:prstGeom prst="rect">
              <a:avLst/>
            </a:prstGeom>
            <a:solidFill>
              <a:srgbClr val="ff5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660200" y="916560"/>
              <a:ext cx="487080" cy="496800"/>
            </a:xfrm>
            <a:prstGeom prst="rect">
              <a:avLst/>
            </a:prstGeom>
            <a:solidFill>
              <a:srgbClr val="ff5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148720" y="916560"/>
              <a:ext cx="485280" cy="496800"/>
            </a:xfrm>
            <a:prstGeom prst="rect">
              <a:avLst/>
            </a:prstGeom>
            <a:solidFill>
              <a:srgbClr val="ff5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632920" y="916560"/>
              <a:ext cx="486720" cy="496800"/>
            </a:xfrm>
            <a:prstGeom prst="rect">
              <a:avLst/>
            </a:prstGeom>
            <a:solidFill>
              <a:srgbClr val="ff5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119640" y="916560"/>
              <a:ext cx="485280" cy="496800"/>
            </a:xfrm>
            <a:prstGeom prst="rect">
              <a:avLst/>
            </a:prstGeom>
            <a:solidFill>
              <a:srgbClr val="ff5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6763680" y="995040"/>
              <a:ext cx="691920" cy="18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917040" y="1311120"/>
              <a:ext cx="538200" cy="18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2842200" y="994680"/>
              <a:ext cx="691920" cy="18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 flipV="1">
              <a:off x="2995560" y="1310760"/>
              <a:ext cx="538200" cy="18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62880" y="205920"/>
              <a:ext cx="1804680" cy="4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a7ff"/>
                  </a:solidFill>
                  <a:latin typeface="Arial"/>
                  <a:ea typeface="Arial"/>
                </a:rPr>
                <a:t>K</a:t>
              </a:r>
              <a:r>
                <a:rPr b="1" lang="en-US" sz="2800" spc="-1" strike="noStrike" baseline="-25000">
                  <a:solidFill>
                    <a:srgbClr val="00a7ff"/>
                  </a:solidFill>
                  <a:latin typeface="Arial"/>
                  <a:ea typeface="Arial"/>
                </a:rPr>
                <a:t>on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[C] &gt; </a:t>
              </a:r>
              <a:r>
                <a:rPr b="1" lang="en-US" sz="2400" spc="-1" strike="noStrike">
                  <a:solidFill>
                    <a:srgbClr val="ff00ff"/>
                  </a:solidFill>
                  <a:latin typeface="Arial"/>
                  <a:ea typeface="Arial"/>
                </a:rPr>
                <a:t>K</a:t>
              </a:r>
              <a:r>
                <a:rPr b="1" lang="en-US" sz="2800" spc="-1" strike="noStrike" baseline="-25000">
                  <a:solidFill>
                    <a:srgbClr val="ff00ff"/>
                  </a:solidFill>
                  <a:latin typeface="Arial"/>
                  <a:ea typeface="Arial"/>
                </a:rPr>
                <a:t>of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686360" y="1468800"/>
              <a:ext cx="487080" cy="496800"/>
            </a:xfrm>
            <a:prstGeom prst="rect">
              <a:avLst/>
            </a:prstGeom>
            <a:solidFill>
              <a:srgbClr val="ff5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41280" y="1548000"/>
              <a:ext cx="487080" cy="496800"/>
            </a:xfrm>
            <a:prstGeom prst="rect">
              <a:avLst/>
            </a:prstGeom>
            <a:solidFill>
              <a:srgbClr val="ff5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304920" y="4860360"/>
            <a:ext cx="8458200" cy="1638360"/>
            <a:chOff x="304920" y="4860360"/>
            <a:chExt cx="8458200" cy="1638360"/>
          </a:xfrm>
        </p:grpSpPr>
        <p:sp>
          <p:nvSpPr>
            <p:cNvPr id="184" name=""/>
            <p:cNvSpPr/>
            <p:nvPr/>
          </p:nvSpPr>
          <p:spPr>
            <a:xfrm>
              <a:off x="304920" y="4907160"/>
              <a:ext cx="1804680" cy="4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a7ff"/>
                  </a:solidFill>
                  <a:latin typeface="Arial"/>
                  <a:ea typeface="Arial"/>
                </a:rPr>
                <a:t>K</a:t>
              </a:r>
              <a:r>
                <a:rPr b="1" lang="en-US" sz="2800" spc="-1" strike="noStrike" baseline="-25000">
                  <a:solidFill>
                    <a:srgbClr val="00a7ff"/>
                  </a:solidFill>
                  <a:latin typeface="Arial"/>
                  <a:ea typeface="Arial"/>
                </a:rPr>
                <a:t>on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[C] &lt; </a:t>
              </a:r>
              <a:r>
                <a:rPr b="1" lang="en-US" sz="2400" spc="-1" strike="noStrike">
                  <a:solidFill>
                    <a:srgbClr val="ff00ff"/>
                  </a:solidFill>
                  <a:latin typeface="Arial"/>
                  <a:ea typeface="Arial"/>
                </a:rPr>
                <a:t>K</a:t>
              </a:r>
              <a:r>
                <a:rPr b="1" lang="en-US" sz="2800" spc="-1" strike="noStrike" baseline="-25000">
                  <a:solidFill>
                    <a:srgbClr val="ff00ff"/>
                  </a:solidFill>
                  <a:latin typeface="Arial"/>
                  <a:ea typeface="Arial"/>
                </a:rPr>
                <a:t>of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20880000">
              <a:off x="7922880" y="4905000"/>
              <a:ext cx="482400" cy="493560"/>
            </a:xfrm>
            <a:prstGeom prst="rect">
              <a:avLst/>
            </a:prstGeom>
            <a:solidFill>
              <a:srgbClr val="ff5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033880" y="5668560"/>
              <a:ext cx="480960" cy="493560"/>
            </a:xfrm>
            <a:prstGeom prst="rect">
              <a:avLst/>
            </a:prstGeom>
            <a:solidFill>
              <a:srgbClr val="ff5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14840" y="5668560"/>
              <a:ext cx="482760" cy="493560"/>
            </a:xfrm>
            <a:prstGeom prst="rect">
              <a:avLst/>
            </a:prstGeom>
            <a:solidFill>
              <a:srgbClr val="ff5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997600" y="5668560"/>
              <a:ext cx="480960" cy="493560"/>
            </a:xfrm>
            <a:prstGeom prst="rect">
              <a:avLst/>
            </a:prstGeom>
            <a:solidFill>
              <a:srgbClr val="ff5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478560" y="5668560"/>
              <a:ext cx="482760" cy="493560"/>
            </a:xfrm>
            <a:prstGeom prst="rect">
              <a:avLst/>
            </a:prstGeom>
            <a:solidFill>
              <a:srgbClr val="ff5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961320" y="5668560"/>
              <a:ext cx="480960" cy="493560"/>
            </a:xfrm>
            <a:prstGeom prst="rect">
              <a:avLst/>
            </a:prstGeom>
            <a:solidFill>
              <a:srgbClr val="ff5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442280" y="5668560"/>
              <a:ext cx="482400" cy="493560"/>
            </a:xfrm>
            <a:prstGeom prst="rect">
              <a:avLst/>
            </a:prstGeom>
            <a:solidFill>
              <a:srgbClr val="ff5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38400" y="5668560"/>
              <a:ext cx="480960" cy="493560"/>
            </a:xfrm>
            <a:prstGeom prst="rect">
              <a:avLst/>
            </a:prstGeom>
            <a:solidFill>
              <a:srgbClr val="ff5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619360" y="5668560"/>
              <a:ext cx="482760" cy="493560"/>
            </a:xfrm>
            <a:prstGeom prst="rect">
              <a:avLst/>
            </a:prstGeom>
            <a:solidFill>
              <a:srgbClr val="ff5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102120" y="5668560"/>
              <a:ext cx="480960" cy="493560"/>
            </a:xfrm>
            <a:prstGeom prst="rect">
              <a:avLst/>
            </a:prstGeom>
            <a:solidFill>
              <a:srgbClr val="ff5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583080" y="5668560"/>
              <a:ext cx="482400" cy="493560"/>
            </a:xfrm>
            <a:prstGeom prst="rect">
              <a:avLst/>
            </a:prstGeom>
            <a:solidFill>
              <a:srgbClr val="ff5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065480" y="5668560"/>
              <a:ext cx="480960" cy="493560"/>
            </a:xfrm>
            <a:prstGeom prst="rect">
              <a:avLst/>
            </a:prstGeom>
            <a:solidFill>
              <a:srgbClr val="ff5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46440" y="5668560"/>
              <a:ext cx="482760" cy="493560"/>
            </a:xfrm>
            <a:prstGeom prst="rect">
              <a:avLst/>
            </a:prstGeom>
            <a:solidFill>
              <a:srgbClr val="ff5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33520" y="6005160"/>
              <a:ext cx="482400" cy="493560"/>
            </a:xfrm>
            <a:prstGeom prst="rect">
              <a:avLst/>
            </a:prstGeom>
            <a:solidFill>
              <a:srgbClr val="ff5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1218960" y="6083640"/>
              <a:ext cx="685800" cy="14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219320" y="5769720"/>
              <a:ext cx="533160" cy="18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8076600" y="5769360"/>
              <a:ext cx="685800" cy="18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8229600" y="6083640"/>
              <a:ext cx="533520" cy="144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60480" y="3962520"/>
            <a:ext cx="90802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quilibrium constant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eq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determined by change in free   energy between free subunits and polym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eq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= </a:t>
            </a:r>
            <a:r>
              <a:rPr b="1" lang="en-US" sz="2400" spc="-1" strike="noStrike">
                <a:solidFill>
                  <a:srgbClr val="00a7ff"/>
                </a:solidFill>
                <a:latin typeface="Arial"/>
                <a:ea typeface="Arial"/>
              </a:rPr>
              <a:t>K</a:t>
            </a:r>
            <a:r>
              <a:rPr b="1" lang="en-US" sz="2800" spc="-1" strike="noStrike" baseline="-25000">
                <a:solidFill>
                  <a:srgbClr val="00a7ff"/>
                </a:solidFill>
                <a:latin typeface="Arial"/>
                <a:ea typeface="Arial"/>
              </a:rPr>
              <a:t>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  <a:ea typeface="Arial"/>
              </a:rPr>
              <a:t>K</a:t>
            </a:r>
            <a:r>
              <a:rPr b="1" lang="en-US" sz="2800" spc="-1" strike="noStrike" baseline="-25000">
                <a:solidFill>
                  <a:srgbClr val="ff00ff"/>
                </a:solidFill>
                <a:latin typeface="Arial"/>
                <a:ea typeface="Arial"/>
              </a:rPr>
              <a:t>off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= 1/</a:t>
            </a:r>
            <a:r>
              <a:rPr b="1" lang="en-US" sz="2400" spc="-1" strike="noStrike">
                <a:solidFill>
                  <a:srgbClr val="00d100"/>
                </a:solidFill>
                <a:latin typeface="Arial"/>
                <a:ea typeface="Arial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665800" y="150840"/>
            <a:ext cx="3795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85ff"/>
                </a:solidFill>
                <a:latin typeface="Arial"/>
                <a:ea typeface="Arial"/>
              </a:rPr>
              <a:t>Critical Concent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4080" y="1447920"/>
            <a:ext cx="58708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ncentration of free subunits at whi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ate of subunit addition = rate of lo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760" y="2895480"/>
            <a:ext cx="6276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bove </a:t>
            </a:r>
            <a:r>
              <a:rPr b="1" lang="en-US" sz="2400" spc="-1" strike="noStrike">
                <a:solidFill>
                  <a:srgbClr val="00d100"/>
                </a:solidFill>
                <a:latin typeface="Arial"/>
                <a:ea typeface="Arial"/>
              </a:rPr>
              <a:t>Cc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net growth, below net shrin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327120" y="106200"/>
            <a:ext cx="2470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85ff"/>
                </a:solidFill>
                <a:latin typeface="Arial"/>
                <a:ea typeface="Arial"/>
              </a:rPr>
              <a:t>Polar Poly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838080" y="2387520"/>
            <a:ext cx="8128080" cy="507960"/>
            <a:chOff x="838080" y="2387520"/>
            <a:chExt cx="8128080" cy="507960"/>
          </a:xfrm>
        </p:grpSpPr>
        <p:sp>
          <p:nvSpPr>
            <p:cNvPr id="209" name=""/>
            <p:cNvSpPr/>
            <p:nvPr/>
          </p:nvSpPr>
          <p:spPr>
            <a:xfrm>
              <a:off x="5841720" y="2387520"/>
              <a:ext cx="312444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b00"/>
                  </a:solidFill>
                  <a:latin typeface="Arial"/>
                  <a:ea typeface="Arial"/>
                </a:rPr>
                <a:t>subunit in polym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38080" y="2427120"/>
              <a:ext cx="207000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b00"/>
                  </a:solidFill>
                  <a:latin typeface="Arial"/>
                  <a:ea typeface="Arial"/>
                </a:rPr>
                <a:t>free subun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084560" y="2665440"/>
              <a:ext cx="546120" cy="324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4860000" y="2400120"/>
              <a:ext cx="824040" cy="495360"/>
            </a:xfrm>
            <a:prstGeom prst="pie">
              <a:avLst/>
            </a:prstGeom>
            <a:solidFill>
              <a:srgbClr val="f9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3031920" y="2387520"/>
              <a:ext cx="822240" cy="495360"/>
            </a:xfrm>
            <a:prstGeom prst="pie">
              <a:avLst/>
            </a:prstGeom>
            <a:solidFill>
              <a:srgbClr val="f9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1203120" y="3276720"/>
            <a:ext cx="6782040" cy="1528200"/>
            <a:chOff x="1203120" y="3276720"/>
            <a:chExt cx="6782040" cy="1528200"/>
          </a:xfrm>
        </p:grpSpPr>
        <p:sp>
          <p:nvSpPr>
            <p:cNvPr id="215" name=""/>
            <p:cNvSpPr/>
            <p:nvPr/>
          </p:nvSpPr>
          <p:spPr>
            <a:xfrm>
              <a:off x="5562720" y="3276720"/>
              <a:ext cx="144792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d00da"/>
                  </a:solidFill>
                  <a:latin typeface="Arial"/>
                  <a:ea typeface="Arial"/>
                </a:rPr>
                <a:t>plus e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590920" y="3276720"/>
              <a:ext cx="177804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d00da"/>
                  </a:solidFill>
                  <a:latin typeface="Arial"/>
                  <a:ea typeface="Arial"/>
                </a:rPr>
                <a:t>minus e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788160" y="4062240"/>
              <a:ext cx="1800" cy="16308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6705360" y="4143240"/>
              <a:ext cx="166680" cy="108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503800" y="4138200"/>
              <a:ext cx="1440" cy="16344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2422800" y="4219200"/>
              <a:ext cx="163440" cy="144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7162920" y="3924000"/>
              <a:ext cx="822240" cy="495000"/>
            </a:xfrm>
            <a:prstGeom prst="pie">
              <a:avLst/>
            </a:prstGeom>
            <a:solidFill>
              <a:srgbClr val="f9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1202760" y="3909600"/>
              <a:ext cx="824040" cy="495000"/>
            </a:xfrm>
            <a:prstGeom prst="pie">
              <a:avLst/>
            </a:prstGeom>
            <a:solidFill>
              <a:srgbClr val="f9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rot="10800000">
              <a:off x="5286600" y="3809880"/>
              <a:ext cx="822240" cy="491760"/>
            </a:xfrm>
            <a:prstGeom prst="pie">
              <a:avLst/>
            </a:prstGeom>
            <a:solidFill>
              <a:srgbClr val="ff5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rot="10800000">
              <a:off x="4627800" y="3809880"/>
              <a:ext cx="822240" cy="491760"/>
            </a:xfrm>
            <a:prstGeom prst="pie">
              <a:avLst/>
            </a:prstGeom>
            <a:solidFill>
              <a:srgbClr val="ff5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rot="10800000">
              <a:off x="2649240" y="3809880"/>
              <a:ext cx="824040" cy="491760"/>
            </a:xfrm>
            <a:prstGeom prst="pie">
              <a:avLst/>
            </a:prstGeom>
            <a:solidFill>
              <a:srgbClr val="ff5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rot="10800000">
              <a:off x="3969000" y="3809880"/>
              <a:ext cx="822240" cy="491760"/>
            </a:xfrm>
            <a:prstGeom prst="pie">
              <a:avLst/>
            </a:prstGeom>
            <a:solidFill>
              <a:srgbClr val="ff5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0800000">
              <a:off x="3310200" y="3809880"/>
              <a:ext cx="822240" cy="491760"/>
            </a:xfrm>
            <a:prstGeom prst="pie">
              <a:avLst/>
            </a:prstGeom>
            <a:solidFill>
              <a:srgbClr val="ff5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rot="10800000">
              <a:off x="5545440" y="4313160"/>
              <a:ext cx="822240" cy="491760"/>
            </a:xfrm>
            <a:prstGeom prst="pie">
              <a:avLst/>
            </a:prstGeom>
            <a:solidFill>
              <a:srgbClr val="ff5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10800000">
              <a:off x="4886640" y="4313160"/>
              <a:ext cx="822240" cy="491760"/>
            </a:xfrm>
            <a:prstGeom prst="pie">
              <a:avLst/>
            </a:prstGeom>
            <a:solidFill>
              <a:srgbClr val="ff5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0800000">
              <a:off x="2908080" y="4313160"/>
              <a:ext cx="824040" cy="491760"/>
            </a:xfrm>
            <a:prstGeom prst="pie">
              <a:avLst/>
            </a:prstGeom>
            <a:solidFill>
              <a:srgbClr val="ff5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rot="10800000">
              <a:off x="4227840" y="4313160"/>
              <a:ext cx="822240" cy="491760"/>
            </a:xfrm>
            <a:prstGeom prst="pie">
              <a:avLst/>
            </a:prstGeom>
            <a:solidFill>
              <a:srgbClr val="ff5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rot="10800000">
              <a:off x="3568320" y="4313160"/>
              <a:ext cx="822600" cy="491760"/>
            </a:xfrm>
            <a:prstGeom prst="pie">
              <a:avLst/>
            </a:prstGeom>
            <a:solidFill>
              <a:srgbClr val="ff5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1828800" y="4838760"/>
            <a:ext cx="5969160" cy="1866960"/>
            <a:chOff x="1828800" y="4838760"/>
            <a:chExt cx="5969160" cy="1866960"/>
          </a:xfrm>
        </p:grpSpPr>
        <p:sp>
          <p:nvSpPr>
            <p:cNvPr id="234" name=""/>
            <p:cNvSpPr/>
            <p:nvPr/>
          </p:nvSpPr>
          <p:spPr>
            <a:xfrm>
              <a:off x="6934320" y="5067360"/>
              <a:ext cx="86364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de00"/>
                  </a:solidFill>
                  <a:latin typeface="Arial"/>
                  <a:ea typeface="Arial"/>
                </a:rPr>
                <a:t>fa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981080" y="5067360"/>
              <a:ext cx="99072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sl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514600" y="4838760"/>
              <a:ext cx="492120" cy="49536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6514920" y="4915080"/>
              <a:ext cx="495000" cy="493560"/>
            </a:xfrm>
            <a:prstGeom prst="line">
              <a:avLst/>
            </a:prstGeom>
            <a:ln w="50760">
              <a:solidFill>
                <a:srgbClr val="00d1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rot="10800000">
              <a:off x="5121360" y="5716440"/>
              <a:ext cx="823680" cy="493560"/>
            </a:xfrm>
            <a:prstGeom prst="pie">
              <a:avLst/>
            </a:prstGeom>
            <a:solidFill>
              <a:srgbClr val="ff5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rot="10800000">
              <a:off x="4462560" y="5716440"/>
              <a:ext cx="823680" cy="493560"/>
            </a:xfrm>
            <a:prstGeom prst="pie">
              <a:avLst/>
            </a:prstGeom>
            <a:solidFill>
              <a:srgbClr val="ff5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rot="10800000">
              <a:off x="2486160" y="5716440"/>
              <a:ext cx="823680" cy="493560"/>
            </a:xfrm>
            <a:prstGeom prst="pie">
              <a:avLst/>
            </a:prstGeom>
            <a:solidFill>
              <a:srgbClr val="ff5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10800000">
              <a:off x="3803760" y="5716440"/>
              <a:ext cx="823680" cy="493560"/>
            </a:xfrm>
            <a:prstGeom prst="pie">
              <a:avLst/>
            </a:prstGeom>
            <a:solidFill>
              <a:srgbClr val="ff5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rot="10800000">
              <a:off x="3144960" y="5716440"/>
              <a:ext cx="823680" cy="493560"/>
            </a:xfrm>
            <a:prstGeom prst="pie">
              <a:avLst/>
            </a:prstGeom>
            <a:solidFill>
              <a:srgbClr val="ff5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5780160" y="5716800"/>
              <a:ext cx="823680" cy="493560"/>
            </a:xfrm>
            <a:prstGeom prst="pie">
              <a:avLst/>
            </a:prstGeom>
            <a:solidFill>
              <a:srgbClr val="f9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1828800" y="5716800"/>
              <a:ext cx="822240" cy="493560"/>
            </a:xfrm>
            <a:prstGeom prst="pie">
              <a:avLst/>
            </a:prstGeom>
            <a:solidFill>
              <a:srgbClr val="f9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rot="10800000">
              <a:off x="5451120" y="6210360"/>
              <a:ext cx="824040" cy="495360"/>
            </a:xfrm>
            <a:prstGeom prst="pie">
              <a:avLst/>
            </a:prstGeom>
            <a:solidFill>
              <a:srgbClr val="ff5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rot="10800000">
              <a:off x="4792320" y="6210360"/>
              <a:ext cx="824040" cy="495360"/>
            </a:xfrm>
            <a:prstGeom prst="pie">
              <a:avLst/>
            </a:prstGeom>
            <a:solidFill>
              <a:srgbClr val="ff5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rot="10800000">
              <a:off x="2816280" y="6210360"/>
              <a:ext cx="823680" cy="495360"/>
            </a:xfrm>
            <a:prstGeom prst="pie">
              <a:avLst/>
            </a:prstGeom>
            <a:solidFill>
              <a:srgbClr val="ff5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rot="10800000">
              <a:off x="4133520" y="6210360"/>
              <a:ext cx="824040" cy="495360"/>
            </a:xfrm>
            <a:prstGeom prst="pie">
              <a:avLst/>
            </a:prstGeom>
            <a:solidFill>
              <a:srgbClr val="ff5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rot="10800000">
              <a:off x="3474720" y="6210360"/>
              <a:ext cx="824040" cy="495360"/>
            </a:xfrm>
            <a:prstGeom prst="pie">
              <a:avLst/>
            </a:prstGeom>
            <a:solidFill>
              <a:srgbClr val="ff5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6109560" y="6210360"/>
              <a:ext cx="824040" cy="495360"/>
            </a:xfrm>
            <a:prstGeom prst="pie">
              <a:avLst/>
            </a:prstGeom>
            <a:solidFill>
              <a:srgbClr val="f9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304920" y="914400"/>
            <a:ext cx="883908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wo ends polymerize and depolymerize at different r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b00"/>
                </a:solidFill>
                <a:latin typeface="Arial"/>
                <a:ea typeface="Arial"/>
              </a:rPr>
              <a:t>BEC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ubunit conformation changes as it incorporates into the poly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571680" y="2311560"/>
            <a:ext cx="82803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&gt; the same interactions are broken when a subunit dissociates from either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&gt; the final state of the subunit is iden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160" y="5486400"/>
            <a:ext cx="902952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f the plus end grows 3 times fas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t must also shrink 3 times faster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b00"/>
                </a:solidFill>
                <a:latin typeface="Arial"/>
                <a:ea typeface="Arial"/>
              </a:rPr>
              <a:t>above </a:t>
            </a:r>
            <a:r>
              <a:rPr b="1" lang="en-US" sz="2400" spc="-1" strike="noStrike">
                <a:solidFill>
                  <a:srgbClr val="00d100"/>
                </a:solidFill>
                <a:latin typeface="Arial"/>
                <a:ea typeface="Arial"/>
              </a:rPr>
              <a:t>Cc</a:t>
            </a:r>
            <a:r>
              <a:rPr b="1" lang="en-US" sz="2400" spc="-1" strike="noStrike">
                <a:solidFill>
                  <a:srgbClr val="fcfb00"/>
                </a:solidFill>
                <a:latin typeface="Arial"/>
                <a:ea typeface="Arial"/>
              </a:rPr>
              <a:t> both ends grow, below </a:t>
            </a:r>
            <a:r>
              <a:rPr b="1" lang="en-US" sz="2400" spc="-1" strike="noStrike">
                <a:solidFill>
                  <a:srgbClr val="00d100"/>
                </a:solidFill>
                <a:latin typeface="Arial"/>
                <a:ea typeface="Arial"/>
              </a:rPr>
              <a:t>Cc</a:t>
            </a:r>
            <a:r>
              <a:rPr b="1" lang="en-US" sz="2400" spc="-1" strike="noStrike">
                <a:solidFill>
                  <a:srgbClr val="fcfb00"/>
                </a:solidFill>
                <a:latin typeface="Arial"/>
                <a:ea typeface="Arial"/>
              </a:rPr>
              <a:t>, both shr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511360" y="533520"/>
            <a:ext cx="41022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ifferent </a:t>
            </a:r>
            <a:r>
              <a:rPr b="1" lang="en-US" sz="2400" spc="-1" strike="noStrike">
                <a:solidFill>
                  <a:srgbClr val="00a7ff"/>
                </a:solidFill>
                <a:latin typeface="Arial"/>
                <a:ea typeface="Arial"/>
              </a:rPr>
              <a:t>K</a:t>
            </a:r>
            <a:r>
              <a:rPr b="1" lang="en-US" sz="2800" spc="-1" strike="noStrike" baseline="-25000">
                <a:solidFill>
                  <a:srgbClr val="00a7ff"/>
                </a:solidFill>
                <a:latin typeface="Arial"/>
                <a:ea typeface="Arial"/>
              </a:rPr>
              <a:t>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and 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  <a:ea typeface="Arial"/>
              </a:rPr>
              <a:t>K</a:t>
            </a:r>
            <a:r>
              <a:rPr b="1" lang="en-US" sz="2800" spc="-1" strike="noStrike" baseline="-25000">
                <a:solidFill>
                  <a:srgbClr val="ff00ff"/>
                </a:solidFill>
                <a:latin typeface="Arial"/>
                <a:ea typeface="Arial"/>
              </a:rPr>
              <a:t>o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52400" y="1206360"/>
            <a:ext cx="7628040" cy="8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b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T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  <a:ea typeface="Arial"/>
              </a:rPr>
              <a:t>K</a:t>
            </a:r>
            <a:r>
              <a:rPr b="1" lang="en-US" sz="2800" spc="-1" strike="noStrike" baseline="-25000">
                <a:solidFill>
                  <a:srgbClr val="ff00ff"/>
                </a:solidFill>
                <a:latin typeface="Arial"/>
                <a:ea typeface="Arial"/>
              </a:rPr>
              <a:t>off </a:t>
            </a:r>
            <a:r>
              <a:rPr b="1" lang="en-US" sz="2400" spc="-1" strike="noStrike">
                <a:solidFill>
                  <a:srgbClr val="fcfb00"/>
                </a:solidFill>
                <a:latin typeface="Arial"/>
                <a:ea typeface="Arial"/>
              </a:rPr>
              <a:t>/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a7ff"/>
                </a:solidFill>
                <a:latin typeface="Arial"/>
                <a:ea typeface="Arial"/>
              </a:rPr>
              <a:t>K</a:t>
            </a:r>
            <a:r>
              <a:rPr b="1" lang="en-US" sz="2800" spc="-1" strike="noStrike" baseline="-25000">
                <a:solidFill>
                  <a:srgbClr val="00a7ff"/>
                </a:solidFill>
                <a:latin typeface="Arial"/>
                <a:ea typeface="Arial"/>
              </a:rPr>
              <a:t>on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cfb00"/>
                </a:solidFill>
                <a:latin typeface="Arial"/>
                <a:ea typeface="Arial"/>
              </a:rPr>
              <a:t>ratio or </a:t>
            </a:r>
            <a:r>
              <a:rPr b="1" lang="en-US" sz="2400" spc="-1" strike="noStrike">
                <a:solidFill>
                  <a:srgbClr val="00d100"/>
                </a:solidFill>
                <a:latin typeface="Arial"/>
                <a:ea typeface="Arial"/>
              </a:rPr>
              <a:t>Cc</a:t>
            </a:r>
            <a:r>
              <a:rPr b="1" lang="en-US" sz="2400" spc="-1" strike="noStrike">
                <a:solidFill>
                  <a:srgbClr val="fcfb00"/>
                </a:solidFill>
                <a:latin typeface="Arial"/>
                <a:ea typeface="Arial"/>
              </a:rPr>
              <a:t> must be the same for both en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04560" y="4038120"/>
            <a:ext cx="8518320" cy="989280"/>
            <a:chOff x="304560" y="4038120"/>
            <a:chExt cx="8518320" cy="989280"/>
          </a:xfrm>
        </p:grpSpPr>
        <p:grpSp>
          <p:nvGrpSpPr>
            <p:cNvPr id="257" name=""/>
            <p:cNvGrpSpPr/>
            <p:nvPr/>
          </p:nvGrpSpPr>
          <p:grpSpPr>
            <a:xfrm>
              <a:off x="2714760" y="4038120"/>
              <a:ext cx="3458520" cy="493560"/>
              <a:chOff x="2714760" y="4038120"/>
              <a:chExt cx="3458520" cy="493560"/>
            </a:xfrm>
          </p:grpSpPr>
          <p:grpSp>
            <p:nvGrpSpPr>
              <p:cNvPr id="258" name=""/>
              <p:cNvGrpSpPr/>
              <p:nvPr/>
            </p:nvGrpSpPr>
            <p:grpSpPr>
              <a:xfrm>
                <a:off x="4692240" y="4038120"/>
                <a:ext cx="1481040" cy="493560"/>
                <a:chOff x="4692240" y="4038120"/>
                <a:chExt cx="1481040" cy="493560"/>
              </a:xfrm>
            </p:grpSpPr>
            <p:sp>
              <p:nvSpPr>
                <p:cNvPr id="259" name=""/>
                <p:cNvSpPr/>
                <p:nvPr/>
              </p:nvSpPr>
              <p:spPr>
                <a:xfrm rot="10800000">
                  <a:off x="5351040" y="4038120"/>
                  <a:ext cx="822240" cy="493560"/>
                </a:xfrm>
                <a:prstGeom prst="pie">
                  <a:avLst/>
                </a:prstGeom>
                <a:solidFill>
                  <a:srgbClr val="ff5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 rot="10800000">
                  <a:off x="4692240" y="4038120"/>
                  <a:ext cx="823680" cy="493560"/>
                </a:xfrm>
                <a:prstGeom prst="pie">
                  <a:avLst/>
                </a:prstGeom>
                <a:solidFill>
                  <a:srgbClr val="ff5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1" name=""/>
              <p:cNvSpPr/>
              <p:nvPr/>
            </p:nvSpPr>
            <p:spPr>
              <a:xfrm rot="10800000">
                <a:off x="2714760" y="4038120"/>
                <a:ext cx="823680" cy="493560"/>
              </a:xfrm>
              <a:prstGeom prst="pie">
                <a:avLst/>
              </a:prstGeom>
              <a:solidFill>
                <a:srgbClr val="ff5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10800000">
                <a:off x="4033080" y="4038120"/>
                <a:ext cx="823680" cy="493560"/>
              </a:xfrm>
              <a:prstGeom prst="pie">
                <a:avLst/>
              </a:prstGeom>
              <a:solidFill>
                <a:srgbClr val="ff5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0800000">
                <a:off x="3373920" y="4038120"/>
                <a:ext cx="823680" cy="493560"/>
              </a:xfrm>
              <a:prstGeom prst="pie">
                <a:avLst/>
              </a:prstGeom>
              <a:solidFill>
                <a:srgbClr val="ff5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4" name=""/>
            <p:cNvSpPr/>
            <p:nvPr/>
          </p:nvSpPr>
          <p:spPr>
            <a:xfrm flipH="1">
              <a:off x="6008400" y="4038480"/>
              <a:ext cx="823680" cy="493560"/>
            </a:xfrm>
            <a:prstGeom prst="pie">
              <a:avLst/>
            </a:prstGeom>
            <a:solidFill>
              <a:srgbClr val="f9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2055600" y="4038480"/>
              <a:ext cx="823680" cy="493560"/>
            </a:xfrm>
            <a:prstGeom prst="pie">
              <a:avLst/>
            </a:prstGeom>
            <a:solidFill>
              <a:srgbClr val="f9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3044880" y="4532400"/>
              <a:ext cx="3458520" cy="495000"/>
              <a:chOff x="3044880" y="4532400"/>
              <a:chExt cx="3458520" cy="49500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5022360" y="4532760"/>
                <a:ext cx="1481040" cy="494640"/>
                <a:chOff x="5022360" y="4532760"/>
                <a:chExt cx="1481040" cy="494640"/>
              </a:xfrm>
            </p:grpSpPr>
            <p:sp>
              <p:nvSpPr>
                <p:cNvPr id="268" name=""/>
                <p:cNvSpPr/>
                <p:nvPr/>
              </p:nvSpPr>
              <p:spPr>
                <a:xfrm rot="10800000">
                  <a:off x="5681160" y="4532760"/>
                  <a:ext cx="822240" cy="494640"/>
                </a:xfrm>
                <a:prstGeom prst="pie">
                  <a:avLst/>
                </a:prstGeom>
                <a:solidFill>
                  <a:srgbClr val="ff5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rot="10800000">
                  <a:off x="5022360" y="4532760"/>
                  <a:ext cx="823680" cy="494640"/>
                </a:xfrm>
                <a:prstGeom prst="pie">
                  <a:avLst/>
                </a:prstGeom>
                <a:solidFill>
                  <a:srgbClr val="ff5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0" name=""/>
              <p:cNvSpPr/>
              <p:nvPr/>
            </p:nvSpPr>
            <p:spPr>
              <a:xfrm rot="10800000">
                <a:off x="3044880" y="4532400"/>
                <a:ext cx="823680" cy="495000"/>
              </a:xfrm>
              <a:prstGeom prst="pie">
                <a:avLst/>
              </a:prstGeom>
              <a:solidFill>
                <a:srgbClr val="ff5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rot="10800000">
                <a:off x="4363200" y="4532400"/>
                <a:ext cx="823680" cy="495000"/>
              </a:xfrm>
              <a:prstGeom prst="pie">
                <a:avLst/>
              </a:prstGeom>
              <a:solidFill>
                <a:srgbClr val="ff5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10800000">
                <a:off x="3704040" y="4532400"/>
                <a:ext cx="823680" cy="495000"/>
              </a:xfrm>
              <a:prstGeom prst="pie">
                <a:avLst/>
              </a:prstGeom>
              <a:solidFill>
                <a:srgbClr val="ff5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 flipH="1">
              <a:off x="6338520" y="4532040"/>
              <a:ext cx="823680" cy="495360"/>
            </a:xfrm>
            <a:prstGeom prst="pie">
              <a:avLst/>
            </a:prstGeom>
            <a:solidFill>
              <a:srgbClr val="f9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1344240" y="4513320"/>
              <a:ext cx="699840" cy="144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8000640" y="4267080"/>
              <a:ext cx="822240" cy="495360"/>
            </a:xfrm>
            <a:prstGeom prst="pie">
              <a:avLst/>
            </a:prstGeom>
            <a:solidFill>
              <a:srgbClr val="f9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304200" y="4343400"/>
              <a:ext cx="821880" cy="495360"/>
            </a:xfrm>
            <a:prstGeom prst="pie">
              <a:avLst/>
            </a:prstGeom>
            <a:solidFill>
              <a:srgbClr val="f9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420560" y="4740120"/>
              <a:ext cx="699840" cy="468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7211520" y="4360680"/>
              <a:ext cx="699480" cy="18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287840" y="4665600"/>
              <a:ext cx="699840" cy="144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2756520" y="38160"/>
            <a:ext cx="36334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85ff"/>
                </a:solidFill>
                <a:latin typeface="Arial"/>
                <a:ea typeface="Arial"/>
              </a:rPr>
              <a:t>Plus and minus e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452600" y="317520"/>
            <a:ext cx="621972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85ff"/>
                </a:solidFill>
                <a:latin typeface="Arial"/>
                <a:ea typeface="Arial"/>
              </a:rPr>
              <a:t>Complex Polymer (non-equilibrium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icrotubules, actin fila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1549440"/>
            <a:ext cx="9144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Arial"/>
                <a:ea typeface="Arial"/>
              </a:rPr>
              <a:t>due to nucleotide hydrolysis upon assembly of subunit into poly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203840" y="5651640"/>
            <a:ext cx="6739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ucleotide hydrolysis reduces binding affi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825480" y="2349360"/>
            <a:ext cx="7480440" cy="2689200"/>
            <a:chOff x="825480" y="2349360"/>
            <a:chExt cx="7480440" cy="2689200"/>
          </a:xfrm>
        </p:grpSpPr>
        <p:sp>
          <p:nvSpPr>
            <p:cNvPr id="285" name=""/>
            <p:cNvSpPr/>
            <p:nvPr/>
          </p:nvSpPr>
          <p:spPr>
            <a:xfrm flipH="1">
              <a:off x="7378560" y="2666880"/>
              <a:ext cx="914400" cy="542880"/>
            </a:xfrm>
            <a:prstGeom prst="pie">
              <a:avLst/>
            </a:prstGeom>
            <a:solidFill>
              <a:srgbClr val="f9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848720" y="2349360"/>
              <a:ext cx="45720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25480" y="2755800"/>
              <a:ext cx="2209680" cy="18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= nucleoti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iphosph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= nucleoti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riphosph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3035160" y="3276000"/>
              <a:ext cx="843120" cy="506520"/>
            </a:xfrm>
            <a:prstGeom prst="pie">
              <a:avLst/>
            </a:prstGeom>
            <a:solidFill>
              <a:srgbClr val="ff5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290760" y="2946240"/>
              <a:ext cx="41904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rot="10800000">
              <a:off x="3720960" y="3276000"/>
              <a:ext cx="843120" cy="506520"/>
            </a:xfrm>
            <a:prstGeom prst="pie">
              <a:avLst/>
            </a:prstGeom>
            <a:solidFill>
              <a:srgbClr val="ff5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976560" y="2946240"/>
              <a:ext cx="41904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rot="10800000">
              <a:off x="4406760" y="3276000"/>
              <a:ext cx="843120" cy="506520"/>
            </a:xfrm>
            <a:prstGeom prst="pie">
              <a:avLst/>
            </a:prstGeom>
            <a:solidFill>
              <a:srgbClr val="ff5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662360" y="2946240"/>
              <a:ext cx="41904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10800000">
              <a:off x="5092560" y="3276000"/>
              <a:ext cx="843120" cy="506520"/>
            </a:xfrm>
            <a:prstGeom prst="pie">
              <a:avLst/>
            </a:prstGeom>
            <a:solidFill>
              <a:srgbClr val="ff5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348160" y="2946240"/>
              <a:ext cx="41904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rot="10800000">
              <a:off x="3340080" y="3809520"/>
              <a:ext cx="843120" cy="506520"/>
            </a:xfrm>
            <a:prstGeom prst="pie">
              <a:avLst/>
            </a:prstGeom>
            <a:solidFill>
              <a:srgbClr val="ff5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633840" y="3479760"/>
              <a:ext cx="419040" cy="79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rot="10800000">
              <a:off x="4025880" y="3809520"/>
              <a:ext cx="843120" cy="506520"/>
            </a:xfrm>
            <a:prstGeom prst="pie">
              <a:avLst/>
            </a:prstGeom>
            <a:solidFill>
              <a:srgbClr val="ff5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319640" y="3479760"/>
              <a:ext cx="419040" cy="79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rot="10800000">
              <a:off x="4711680" y="3809520"/>
              <a:ext cx="843120" cy="506520"/>
            </a:xfrm>
            <a:prstGeom prst="pie">
              <a:avLst/>
            </a:prstGeom>
            <a:solidFill>
              <a:srgbClr val="ff5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005440" y="3479760"/>
              <a:ext cx="419040" cy="79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rot="10800000">
              <a:off x="5397480" y="3809520"/>
              <a:ext cx="843120" cy="506520"/>
            </a:xfrm>
            <a:prstGeom prst="pie">
              <a:avLst/>
            </a:prstGeom>
            <a:solidFill>
              <a:srgbClr val="ff5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691240" y="3479760"/>
              <a:ext cx="419040" cy="79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10800000">
              <a:off x="5778360" y="3276000"/>
              <a:ext cx="843120" cy="506520"/>
            </a:xfrm>
            <a:prstGeom prst="pie">
              <a:avLst/>
            </a:prstGeom>
            <a:solidFill>
              <a:srgbClr val="f9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033960" y="2946240"/>
              <a:ext cx="41904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378560" y="4495680"/>
              <a:ext cx="914400" cy="542880"/>
            </a:xfrm>
            <a:prstGeom prst="pie">
              <a:avLst/>
            </a:prstGeom>
            <a:solidFill>
              <a:srgbClr val="ff5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848720" y="4190760"/>
              <a:ext cx="45720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540480" y="4114800"/>
              <a:ext cx="533520" cy="228600"/>
            </a:xfrm>
            <a:prstGeom prst="line">
              <a:avLst/>
            </a:prstGeom>
            <a:ln w="88920">
              <a:solidFill>
                <a:srgbClr val="00d1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 flipV="1">
              <a:off x="6435720" y="4395240"/>
              <a:ext cx="512640" cy="198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6845400" y="3124080"/>
              <a:ext cx="457200" cy="304920"/>
            </a:xfrm>
            <a:prstGeom prst="line">
              <a:avLst/>
            </a:prstGeom>
            <a:ln w="88920">
              <a:solidFill>
                <a:srgbClr val="00d1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7079400" y="3266640"/>
              <a:ext cx="443160" cy="322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-495360" y="177840"/>
            <a:ext cx="101221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50ff"/>
                </a:solidFill>
                <a:latin typeface="Arial"/>
                <a:ea typeface="Arial"/>
              </a:rPr>
              <a:t>Genetic Screens: Yeast ‘Cell Division Cycle’ (CDC) Mut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46120" y="863640"/>
            <a:ext cx="8034480" cy="574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90520" y="1168560"/>
            <a:ext cx="494028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50206"/>
                </a:solidFill>
                <a:latin typeface="Arial"/>
                <a:ea typeface="Arial"/>
              </a:rPr>
              <a:t>‘</a:t>
            </a:r>
            <a:r>
              <a:rPr b="1" lang="en-US" sz="2800" spc="-1" strike="noStrike">
                <a:solidFill>
                  <a:srgbClr val="050206"/>
                </a:solidFill>
                <a:latin typeface="Arial"/>
                <a:ea typeface="Arial"/>
              </a:rPr>
              <a:t>Domino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50206"/>
                </a:solidFill>
                <a:latin typeface="Arial"/>
                <a:ea typeface="Arial"/>
              </a:rPr>
              <a:t>sequential, dependent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13360" y="1371600"/>
            <a:ext cx="49402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50206"/>
                </a:solidFill>
                <a:latin typeface="Arial"/>
                <a:ea typeface="Arial"/>
              </a:rPr>
              <a:t>‘</a:t>
            </a:r>
            <a:r>
              <a:rPr b="1" lang="en-US" sz="2800" spc="-1" strike="noStrike">
                <a:solidFill>
                  <a:srgbClr val="050206"/>
                </a:solidFill>
                <a:latin typeface="Arial"/>
                <a:ea typeface="Arial"/>
              </a:rPr>
              <a:t>Oscillator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50206"/>
                </a:solidFill>
                <a:latin typeface="Arial"/>
                <a:ea typeface="Arial"/>
              </a:rPr>
              <a:t>central control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-1440" y="5575320"/>
            <a:ext cx="886284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0206"/>
                </a:solidFill>
                <a:latin typeface="Arial"/>
                <a:ea typeface="Arial"/>
              </a:rPr>
              <a:t>can individual protein mutations block steps or whole process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25560" y="3543480"/>
            <a:ext cx="908028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ff"/>
                </a:solidFill>
                <a:latin typeface="Arial"/>
                <a:ea typeface="Arial"/>
              </a:rPr>
              <a:t>internal subunits have different dynamic properties than the en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1854360" y="749160"/>
            <a:ext cx="5410080" cy="2676600"/>
            <a:chOff x="1854360" y="749160"/>
            <a:chExt cx="5410080" cy="2676600"/>
          </a:xfrm>
        </p:grpSpPr>
        <p:sp>
          <p:nvSpPr>
            <p:cNvPr id="314" name=""/>
            <p:cNvSpPr/>
            <p:nvPr/>
          </p:nvSpPr>
          <p:spPr>
            <a:xfrm flipH="1">
              <a:off x="6350040" y="1054080"/>
              <a:ext cx="914400" cy="542880"/>
            </a:xfrm>
            <a:prstGeom prst="pie">
              <a:avLst/>
            </a:prstGeom>
            <a:solidFill>
              <a:srgbClr val="f9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642360" y="749160"/>
              <a:ext cx="45720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10800000">
              <a:off x="1854360" y="1663200"/>
              <a:ext cx="843120" cy="506520"/>
            </a:xfrm>
            <a:prstGeom prst="pie">
              <a:avLst/>
            </a:prstGeom>
            <a:solidFill>
              <a:srgbClr val="ff5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122560" y="1358640"/>
              <a:ext cx="41904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10800000">
              <a:off x="2540160" y="1663200"/>
              <a:ext cx="843120" cy="506520"/>
            </a:xfrm>
            <a:prstGeom prst="pie">
              <a:avLst/>
            </a:prstGeom>
            <a:solidFill>
              <a:srgbClr val="ff5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808360" y="1358640"/>
              <a:ext cx="41904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rot="10800000">
              <a:off x="3225960" y="1663200"/>
              <a:ext cx="843120" cy="506520"/>
            </a:xfrm>
            <a:prstGeom prst="pie">
              <a:avLst/>
            </a:prstGeom>
            <a:solidFill>
              <a:srgbClr val="ff5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494160" y="1358640"/>
              <a:ext cx="41904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rot="10800000">
              <a:off x="3911760" y="1663200"/>
              <a:ext cx="843120" cy="506520"/>
            </a:xfrm>
            <a:prstGeom prst="pie">
              <a:avLst/>
            </a:prstGeom>
            <a:solidFill>
              <a:srgbClr val="ff5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179960" y="1358640"/>
              <a:ext cx="41904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rot="10800000">
              <a:off x="2158920" y="2197080"/>
              <a:ext cx="842760" cy="506160"/>
            </a:xfrm>
            <a:prstGeom prst="pie">
              <a:avLst/>
            </a:prstGeom>
            <a:solidFill>
              <a:srgbClr val="ff5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414880" y="1892160"/>
              <a:ext cx="41904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rot="10800000">
              <a:off x="2844720" y="2197080"/>
              <a:ext cx="842760" cy="506160"/>
            </a:xfrm>
            <a:prstGeom prst="pie">
              <a:avLst/>
            </a:prstGeom>
            <a:solidFill>
              <a:srgbClr val="ff5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100680" y="1892160"/>
              <a:ext cx="41904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rot="10800000">
              <a:off x="3530520" y="2197080"/>
              <a:ext cx="842760" cy="506160"/>
            </a:xfrm>
            <a:prstGeom prst="pie">
              <a:avLst/>
            </a:prstGeom>
            <a:solidFill>
              <a:srgbClr val="ff5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786480" y="1892160"/>
              <a:ext cx="41904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10800000">
              <a:off x="4216320" y="2197080"/>
              <a:ext cx="842760" cy="506160"/>
            </a:xfrm>
            <a:prstGeom prst="pie">
              <a:avLst/>
            </a:prstGeom>
            <a:solidFill>
              <a:srgbClr val="ff5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472280" y="1892160"/>
              <a:ext cx="41904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rot="10800000">
              <a:off x="4597560" y="1663200"/>
              <a:ext cx="843120" cy="506520"/>
            </a:xfrm>
            <a:prstGeom prst="pie">
              <a:avLst/>
            </a:prstGeom>
            <a:solidFill>
              <a:srgbClr val="f9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853160" y="1358640"/>
              <a:ext cx="41904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6197760" y="2882880"/>
              <a:ext cx="914400" cy="542880"/>
            </a:xfrm>
            <a:prstGeom prst="pie">
              <a:avLst/>
            </a:prstGeom>
            <a:solidFill>
              <a:srgbClr val="ff5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489720" y="2577960"/>
              <a:ext cx="45720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5664240" y="1434960"/>
              <a:ext cx="457200" cy="304920"/>
            </a:xfrm>
            <a:prstGeom prst="line">
              <a:avLst/>
            </a:prstGeom>
            <a:ln w="88920">
              <a:solidFill>
                <a:srgbClr val="00d1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899320" y="1577520"/>
              <a:ext cx="442800" cy="322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511960" y="2425680"/>
              <a:ext cx="533520" cy="228600"/>
            </a:xfrm>
            <a:prstGeom prst="line">
              <a:avLst/>
            </a:prstGeom>
            <a:ln w="88920">
              <a:solidFill>
                <a:srgbClr val="00d1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 flipV="1">
              <a:off x="5407200" y="2706120"/>
              <a:ext cx="512640" cy="198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2730600" y="4533840"/>
            <a:ext cx="2818800" cy="533160"/>
            <a:chOff x="2730600" y="4533840"/>
            <a:chExt cx="2818800" cy="533160"/>
          </a:xfrm>
        </p:grpSpPr>
        <p:sp>
          <p:nvSpPr>
            <p:cNvPr id="341" name=""/>
            <p:cNvSpPr/>
            <p:nvPr/>
          </p:nvSpPr>
          <p:spPr>
            <a:xfrm>
              <a:off x="2730600" y="4533840"/>
              <a:ext cx="990360" cy="533160"/>
            </a:xfrm>
            <a:prstGeom prst="ellipse">
              <a:avLst/>
            </a:prstGeom>
            <a:noFill/>
            <a:ln w="38160">
              <a:solidFill>
                <a:srgbClr val="009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559040" y="4533840"/>
              <a:ext cx="990360" cy="533160"/>
            </a:xfrm>
            <a:prstGeom prst="ellipse">
              <a:avLst/>
            </a:prstGeom>
            <a:noFill/>
            <a:ln w="38160">
              <a:solidFill>
                <a:srgbClr val="009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2030400" y="131760"/>
            <a:ext cx="5079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85ff"/>
                </a:solidFill>
                <a:latin typeface="Arial"/>
                <a:ea typeface="Arial"/>
              </a:rPr>
              <a:t>Complex Polymer prope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986120" y="5321160"/>
            <a:ext cx="515412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d100"/>
                </a:solidFill>
                <a:latin typeface="Arial"/>
                <a:ea typeface="Arial"/>
              </a:rPr>
              <a:t>Cs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= “steady state” concen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7ff"/>
                </a:solidFill>
                <a:latin typeface="Arial"/>
                <a:ea typeface="Arial"/>
              </a:rPr>
              <a:t>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r>
              <a:rPr b="1" lang="en-US" sz="2800" spc="-1" strike="noStrike" baseline="-25000">
                <a:solidFill>
                  <a:srgbClr val="00a7ff"/>
                </a:solidFill>
                <a:latin typeface="Arial"/>
                <a:ea typeface="Arial"/>
              </a:rPr>
              <a:t>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[C] = 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  <a:ea typeface="Arial"/>
              </a:rPr>
              <a:t>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D</a:t>
            </a:r>
            <a:r>
              <a:rPr b="1" lang="en-US" sz="2800" spc="-1" strike="noStrike" baseline="-25000">
                <a:solidFill>
                  <a:srgbClr val="ff00ff"/>
                </a:solidFill>
                <a:latin typeface="Arial"/>
                <a:ea typeface="Arial"/>
              </a:rPr>
              <a:t>o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d100"/>
                </a:solidFill>
                <a:latin typeface="Arial"/>
                <a:ea typeface="Arial"/>
              </a:rPr>
              <a:t>Cs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= 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  <a:ea typeface="Arial"/>
              </a:rPr>
              <a:t>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D</a:t>
            </a:r>
            <a:r>
              <a:rPr b="1" lang="en-US" sz="2800" spc="-1" strike="noStrike" baseline="-25000">
                <a:solidFill>
                  <a:srgbClr val="ff00ff"/>
                </a:solidFill>
                <a:latin typeface="Arial"/>
                <a:ea typeface="Arial"/>
              </a:rPr>
              <a:t>off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 </a:t>
            </a:r>
            <a:r>
              <a:rPr b="1" lang="en-US" sz="2400" spc="-1" strike="noStrike">
                <a:solidFill>
                  <a:srgbClr val="00a7ff"/>
                </a:solidFill>
                <a:latin typeface="Arial"/>
                <a:ea typeface="Arial"/>
              </a:rPr>
              <a:t>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r>
              <a:rPr b="1" lang="en-US" sz="2800" spc="-1" strike="noStrike" baseline="-25000">
                <a:solidFill>
                  <a:srgbClr val="00a7ff"/>
                </a:solidFill>
                <a:latin typeface="Arial"/>
                <a:ea typeface="Arial"/>
              </a:rPr>
              <a:t>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2155320" y="4076640"/>
            <a:ext cx="4826880" cy="930600"/>
            <a:chOff x="2155320" y="4076640"/>
            <a:chExt cx="4826880" cy="930600"/>
          </a:xfrm>
        </p:grpSpPr>
        <p:sp>
          <p:nvSpPr>
            <p:cNvPr id="346" name=""/>
            <p:cNvSpPr/>
            <p:nvPr/>
          </p:nvSpPr>
          <p:spPr>
            <a:xfrm>
              <a:off x="2910240" y="4521240"/>
              <a:ext cx="3413160" cy="4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a7ff"/>
                  </a:solidFill>
                  <a:latin typeface="Arial"/>
                  <a:ea typeface="Arial"/>
                </a:rPr>
                <a:t>K</a:t>
              </a:r>
              <a:r>
                <a:rPr b="1" lang="en-US" sz="2800" spc="-1" strike="noStrike" baseline="-25000">
                  <a:solidFill>
                    <a:srgbClr val="ffffff"/>
                  </a:solidFill>
                  <a:latin typeface="Arial"/>
                  <a:ea typeface="Arial"/>
                </a:rPr>
                <a:t>T</a:t>
              </a:r>
              <a:r>
                <a:rPr b="1" lang="en-US" sz="2800" spc="-1" strike="noStrike" baseline="-25000">
                  <a:solidFill>
                    <a:srgbClr val="00a7ff"/>
                  </a:solidFill>
                  <a:latin typeface="Arial"/>
                  <a:ea typeface="Arial"/>
                </a:rPr>
                <a:t>on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&gt;&gt;</a:t>
              </a:r>
              <a:r>
                <a:rPr b="1" lang="en-US" sz="2400" spc="-1" strike="noStrike">
                  <a:solidFill>
                    <a:srgbClr val="00a7ff"/>
                  </a:solidFill>
                  <a:latin typeface="Arial"/>
                  <a:ea typeface="Arial"/>
                </a:rPr>
                <a:t>K</a:t>
              </a:r>
              <a:r>
                <a:rPr b="1" lang="en-US" sz="2800" spc="-1" strike="noStrike" baseline="-25000">
                  <a:solidFill>
                    <a:srgbClr val="ffffff"/>
                  </a:solidFill>
                  <a:latin typeface="Arial"/>
                  <a:ea typeface="Arial"/>
                </a:rPr>
                <a:t>D</a:t>
              </a:r>
              <a:r>
                <a:rPr b="1" lang="en-US" sz="2800" spc="-1" strike="noStrike" baseline="-25000">
                  <a:solidFill>
                    <a:srgbClr val="00a7ff"/>
                  </a:solidFill>
                  <a:latin typeface="Arial"/>
                  <a:ea typeface="Arial"/>
                </a:rPr>
                <a:t>on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1" lang="en-US" sz="2400" spc="-1" strike="noStrike">
                  <a:solidFill>
                    <a:srgbClr val="ff00ff"/>
                  </a:solidFill>
                  <a:latin typeface="Arial"/>
                  <a:ea typeface="Arial"/>
                </a:rPr>
                <a:t>K</a:t>
              </a:r>
              <a:r>
                <a:rPr b="1" lang="en-US" sz="2800" spc="-1" strike="noStrike" baseline="-25000">
                  <a:solidFill>
                    <a:srgbClr val="ffffff"/>
                  </a:solidFill>
                  <a:latin typeface="Arial"/>
                  <a:ea typeface="Arial"/>
                </a:rPr>
                <a:t>D</a:t>
              </a:r>
              <a:r>
                <a:rPr b="1" lang="en-US" sz="2800" spc="-1" strike="noStrike" baseline="-25000">
                  <a:solidFill>
                    <a:srgbClr val="ff00ff"/>
                  </a:solidFill>
                  <a:latin typeface="Arial"/>
                  <a:ea typeface="Arial"/>
                </a:rPr>
                <a:t>off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&gt;&gt;</a:t>
              </a:r>
              <a:r>
                <a:rPr b="1" lang="en-US" sz="2400" spc="-1" strike="noStrike">
                  <a:solidFill>
                    <a:srgbClr val="ff00ff"/>
                  </a:solidFill>
                  <a:latin typeface="Arial"/>
                  <a:ea typeface="Arial"/>
                </a:rPr>
                <a:t>K</a:t>
              </a:r>
              <a:r>
                <a:rPr b="1" lang="en-US" sz="2800" spc="-1" strike="noStrike" baseline="-25000">
                  <a:solidFill>
                    <a:srgbClr val="ffffff"/>
                  </a:solidFill>
                  <a:latin typeface="Arial"/>
                  <a:ea typeface="Arial"/>
                </a:rPr>
                <a:t>T</a:t>
              </a:r>
              <a:r>
                <a:rPr b="1" lang="en-US" sz="2800" spc="-1" strike="noStrike" baseline="-25000">
                  <a:solidFill>
                    <a:srgbClr val="ff00ff"/>
                  </a:solidFill>
                  <a:latin typeface="Arial"/>
                  <a:ea typeface="Arial"/>
                </a:rPr>
                <a:t>of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155320" y="4076640"/>
              <a:ext cx="4826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 form binds, D form dissocia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0" y="1282680"/>
            <a:ext cx="913140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 longer true equilibrium, rather </a:t>
            </a:r>
            <a:r>
              <a:rPr b="1" lang="en-US" sz="2400" spc="-1" strike="noStrike">
                <a:solidFill>
                  <a:srgbClr val="00d100"/>
                </a:solidFill>
                <a:latin typeface="Arial"/>
                <a:ea typeface="Arial"/>
              </a:rPr>
              <a:t>steady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b00"/>
                </a:solidFill>
                <a:latin typeface="Arial"/>
                <a:ea typeface="Arial"/>
              </a:rPr>
              <a:t>becaus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TP or GTP subunits must be replenish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0" y="3200400"/>
            <a:ext cx="8903880" cy="2676600"/>
            <a:chOff x="0" y="3200400"/>
            <a:chExt cx="8903880" cy="2676600"/>
          </a:xfrm>
        </p:grpSpPr>
        <p:sp>
          <p:nvSpPr>
            <p:cNvPr id="350" name=""/>
            <p:cNvSpPr/>
            <p:nvPr/>
          </p:nvSpPr>
          <p:spPr>
            <a:xfrm>
              <a:off x="0" y="3936960"/>
              <a:ext cx="2833560" cy="11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=diphosph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=triphosph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7045200" y="3505320"/>
              <a:ext cx="918720" cy="542880"/>
            </a:xfrm>
            <a:prstGeom prst="pie">
              <a:avLst/>
            </a:prstGeom>
            <a:solidFill>
              <a:srgbClr val="f9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326000" y="3200400"/>
              <a:ext cx="45936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rot="10800000">
              <a:off x="2526840" y="4114440"/>
              <a:ext cx="847080" cy="506520"/>
            </a:xfrm>
            <a:prstGeom prst="pie">
              <a:avLst/>
            </a:prstGeom>
            <a:solidFill>
              <a:srgbClr val="ff5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771280" y="3809880"/>
              <a:ext cx="42084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rot="10800000">
              <a:off x="3215880" y="4114440"/>
              <a:ext cx="847080" cy="506520"/>
            </a:xfrm>
            <a:prstGeom prst="pie">
              <a:avLst/>
            </a:prstGeom>
            <a:solidFill>
              <a:srgbClr val="ff5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460680" y="3809880"/>
              <a:ext cx="42084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rot="10800000">
              <a:off x="3905280" y="4114440"/>
              <a:ext cx="847080" cy="506520"/>
            </a:xfrm>
            <a:prstGeom prst="pie">
              <a:avLst/>
            </a:prstGeom>
            <a:solidFill>
              <a:srgbClr val="ff5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149720" y="3809880"/>
              <a:ext cx="42084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rot="10800000">
              <a:off x="4594320" y="4114440"/>
              <a:ext cx="847080" cy="506520"/>
            </a:xfrm>
            <a:prstGeom prst="pie">
              <a:avLst/>
            </a:prstGeom>
            <a:solidFill>
              <a:srgbClr val="ff5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839120" y="3809880"/>
              <a:ext cx="42084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rot="10800000">
              <a:off x="2833560" y="4648320"/>
              <a:ext cx="846720" cy="506160"/>
            </a:xfrm>
            <a:prstGeom prst="pie">
              <a:avLst/>
            </a:prstGeom>
            <a:solidFill>
              <a:srgbClr val="ff5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077280" y="4343400"/>
              <a:ext cx="42120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rot="10800000">
              <a:off x="3522600" y="4648320"/>
              <a:ext cx="846720" cy="506160"/>
            </a:xfrm>
            <a:prstGeom prst="pie">
              <a:avLst/>
            </a:prstGeom>
            <a:solidFill>
              <a:srgbClr val="ff5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766680" y="4343400"/>
              <a:ext cx="42120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rot="10800000">
              <a:off x="4212000" y="4648320"/>
              <a:ext cx="846720" cy="506160"/>
            </a:xfrm>
            <a:prstGeom prst="pie">
              <a:avLst/>
            </a:prstGeom>
            <a:solidFill>
              <a:srgbClr val="ff5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455720" y="4343400"/>
              <a:ext cx="42120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rot="10800000">
              <a:off x="4901400" y="4648320"/>
              <a:ext cx="846720" cy="506160"/>
            </a:xfrm>
            <a:prstGeom prst="pie">
              <a:avLst/>
            </a:prstGeom>
            <a:solidFill>
              <a:srgbClr val="ff5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145120" y="4343400"/>
              <a:ext cx="42120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rot="10800000">
              <a:off x="5283720" y="4114440"/>
              <a:ext cx="847080" cy="506520"/>
            </a:xfrm>
            <a:prstGeom prst="pie">
              <a:avLst/>
            </a:prstGeom>
            <a:solidFill>
              <a:srgbClr val="f9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528160" y="3809880"/>
              <a:ext cx="42084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892200" y="5334120"/>
              <a:ext cx="918720" cy="542880"/>
            </a:xfrm>
            <a:prstGeom prst="pie">
              <a:avLst/>
            </a:prstGeom>
            <a:solidFill>
              <a:srgbClr val="ff5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173000" y="5029200"/>
              <a:ext cx="45936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>
              <a:off x="6356160" y="3886200"/>
              <a:ext cx="459360" cy="304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049800" y="5257800"/>
              <a:ext cx="459360" cy="152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rot="10440000">
              <a:off x="8269200" y="3693600"/>
              <a:ext cx="535680" cy="1866960"/>
            </a:xfrm>
            <a:prstGeom prst="pie">
              <a:avLst/>
            </a:prstGeom>
            <a:solidFill>
              <a:srgbClr val="f1009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rot="10440000">
              <a:off x="8324280" y="4700160"/>
              <a:ext cx="536040" cy="857160"/>
            </a:xfrm>
            <a:prstGeom prst="pie">
              <a:avLst/>
            </a:prstGeom>
            <a:solidFill>
              <a:srgbClr val="c1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rot="10440000">
              <a:off x="8801640" y="4674600"/>
              <a:ext cx="22320" cy="1904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13320" y="4444920"/>
              <a:ext cx="1079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erg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9" name=""/>
          <p:cNvSpPr/>
          <p:nvPr/>
        </p:nvSpPr>
        <p:spPr>
          <a:xfrm>
            <a:off x="2576160" y="152280"/>
            <a:ext cx="3994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85ff"/>
                </a:solidFill>
                <a:latin typeface="Arial"/>
                <a:ea typeface="Arial"/>
              </a:rPr>
              <a:t>Steady State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" descr=""/>
          <p:cNvPicPr/>
          <p:nvPr/>
        </p:nvPicPr>
        <p:blipFill>
          <a:blip r:embed="rId1"/>
          <a:srcRect l="0" t="39443" r="50003" b="3249"/>
          <a:stretch/>
        </p:blipFill>
        <p:spPr>
          <a:xfrm>
            <a:off x="1692360" y="114480"/>
            <a:ext cx="5753160" cy="641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371960" y="165240"/>
            <a:ext cx="6401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85ff"/>
                </a:solidFill>
                <a:latin typeface="Arial"/>
                <a:ea typeface="Arial"/>
              </a:rPr>
              <a:t>Consequences for polymer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22000" y="876240"/>
            <a:ext cx="81032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readmilling (actin and microtubule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257920" y="5511960"/>
            <a:ext cx="46234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ritical concentration diffe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d100"/>
                </a:solidFill>
                <a:latin typeface="Arial"/>
                <a:ea typeface="Arial"/>
              </a:rPr>
              <a:t>Cc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(- end) &gt; </a:t>
            </a:r>
            <a:r>
              <a:rPr b="1" lang="en-US" sz="2400" spc="-1" strike="noStrike">
                <a:solidFill>
                  <a:srgbClr val="00d100"/>
                </a:solidFill>
                <a:latin typeface="Arial"/>
                <a:ea typeface="Arial"/>
              </a:rPr>
              <a:t>Cc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(+ e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398320" y="1905120"/>
            <a:ext cx="3355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6858000" y="2438280"/>
            <a:ext cx="914400" cy="542880"/>
          </a:xfrm>
          <a:prstGeom prst="pie">
            <a:avLst/>
          </a:prstGeom>
          <a:solidFill>
            <a:srgbClr val="f9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201080" y="2120760"/>
            <a:ext cx="45720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rot="10800000">
            <a:off x="2361960" y="2819520"/>
            <a:ext cx="842760" cy="506160"/>
          </a:xfrm>
          <a:prstGeom prst="pie">
            <a:avLst/>
          </a:prstGeom>
          <a:solidFill>
            <a:srgbClr val="ff5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668680" y="2502000"/>
            <a:ext cx="41904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rot="10800000">
            <a:off x="3047760" y="2819520"/>
            <a:ext cx="842760" cy="506160"/>
          </a:xfrm>
          <a:prstGeom prst="pie">
            <a:avLst/>
          </a:prstGeom>
          <a:solidFill>
            <a:srgbClr val="ff5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354480" y="2502000"/>
            <a:ext cx="41904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rot="10800000">
            <a:off x="3733560" y="2819520"/>
            <a:ext cx="842760" cy="506160"/>
          </a:xfrm>
          <a:prstGeom prst="pie">
            <a:avLst/>
          </a:prstGeom>
          <a:solidFill>
            <a:srgbClr val="ff5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40280" y="2502000"/>
            <a:ext cx="41904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rot="10800000">
            <a:off x="4419360" y="2819520"/>
            <a:ext cx="842760" cy="506160"/>
          </a:xfrm>
          <a:prstGeom prst="pie">
            <a:avLst/>
          </a:prstGeom>
          <a:solidFill>
            <a:srgbClr val="ff5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726080" y="2502000"/>
            <a:ext cx="41904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rot="10800000">
            <a:off x="2666880" y="3352320"/>
            <a:ext cx="843120" cy="506520"/>
          </a:xfrm>
          <a:prstGeom prst="pie">
            <a:avLst/>
          </a:prstGeom>
          <a:solidFill>
            <a:srgbClr val="ff5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973240" y="3035160"/>
            <a:ext cx="41940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rot="10800000">
            <a:off x="3352680" y="3352320"/>
            <a:ext cx="843120" cy="506520"/>
          </a:xfrm>
          <a:prstGeom prst="pie">
            <a:avLst/>
          </a:prstGeom>
          <a:solidFill>
            <a:srgbClr val="ff5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659040" y="3035160"/>
            <a:ext cx="41940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rot="10800000">
            <a:off x="4038480" y="3352320"/>
            <a:ext cx="843120" cy="506520"/>
          </a:xfrm>
          <a:prstGeom prst="pie">
            <a:avLst/>
          </a:prstGeom>
          <a:solidFill>
            <a:srgbClr val="ff5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344840" y="3035160"/>
            <a:ext cx="41940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rot="10800000">
            <a:off x="4724280" y="3352320"/>
            <a:ext cx="843120" cy="506520"/>
          </a:xfrm>
          <a:prstGeom prst="pie">
            <a:avLst/>
          </a:prstGeom>
          <a:solidFill>
            <a:srgbClr val="ff5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030640" y="3035160"/>
            <a:ext cx="41940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rot="10800000">
            <a:off x="5105160" y="2819520"/>
            <a:ext cx="842760" cy="506160"/>
          </a:xfrm>
          <a:prstGeom prst="pie">
            <a:avLst/>
          </a:prstGeom>
          <a:solidFill>
            <a:srgbClr val="f9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411880" y="2502000"/>
            <a:ext cx="41904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6781680" y="3886200"/>
            <a:ext cx="914400" cy="542880"/>
          </a:xfrm>
          <a:prstGeom prst="pie">
            <a:avLst/>
          </a:prstGeom>
          <a:solidFill>
            <a:srgbClr val="ff5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124760" y="3568680"/>
            <a:ext cx="45720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6095880" y="2819520"/>
            <a:ext cx="457200" cy="304560"/>
          </a:xfrm>
          <a:prstGeom prst="line">
            <a:avLst/>
          </a:prstGeom>
          <a:ln w="88920">
            <a:solidFill>
              <a:srgbClr val="00d1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019920" y="3657600"/>
            <a:ext cx="457200" cy="152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675400" y="2119320"/>
            <a:ext cx="3186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609480" y="2666880"/>
            <a:ext cx="914400" cy="542880"/>
          </a:xfrm>
          <a:prstGeom prst="pie">
            <a:avLst/>
          </a:prstGeom>
          <a:solidFill>
            <a:srgbClr val="f9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952560" y="2349360"/>
            <a:ext cx="45720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85800" y="3886200"/>
            <a:ext cx="914400" cy="542880"/>
          </a:xfrm>
          <a:prstGeom prst="pie">
            <a:avLst/>
          </a:prstGeom>
          <a:solidFill>
            <a:srgbClr val="ff5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028880" y="3568680"/>
            <a:ext cx="45720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676520" y="3048120"/>
            <a:ext cx="457200" cy="152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1828800" y="3581280"/>
            <a:ext cx="457200" cy="304920"/>
          </a:xfrm>
          <a:prstGeom prst="line">
            <a:avLst/>
          </a:prstGeom>
          <a:ln w="88920">
            <a:solidFill>
              <a:srgbClr val="00d1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840240" y="4876920"/>
            <a:ext cx="7453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wo different reactions at each end of the poly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304920" y="1460520"/>
            <a:ext cx="853416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b00"/>
                </a:solidFill>
                <a:latin typeface="Arial"/>
                <a:ea typeface="Arial"/>
              </a:rPr>
              <a:t>both ends expos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d100"/>
                </a:solidFill>
                <a:latin typeface="Arial"/>
                <a:ea typeface="Arial"/>
              </a:rPr>
              <a:t>Steady stat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occurs at concentration betwe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d100"/>
                </a:solidFill>
                <a:latin typeface="Arial"/>
                <a:ea typeface="Arial"/>
              </a:rPr>
              <a:t>Cc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(- end) and </a:t>
            </a:r>
            <a:r>
              <a:rPr b="1" lang="en-US" sz="2400" spc="-1" strike="noStrike">
                <a:solidFill>
                  <a:srgbClr val="00d100"/>
                </a:solidFill>
                <a:latin typeface="Arial"/>
                <a:ea typeface="Arial"/>
              </a:rPr>
              <a:t>Cc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(+ e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041560" y="3022560"/>
            <a:ext cx="5046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b00"/>
                </a:solidFill>
                <a:latin typeface="Arial"/>
                <a:ea typeface="Arial"/>
              </a:rPr>
              <a:t>net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ssembly</a:t>
            </a:r>
            <a:r>
              <a:rPr b="1" lang="en-US" sz="2400" spc="-1" strike="noStrike">
                <a:solidFill>
                  <a:srgbClr val="fcfb00"/>
                </a:solidFill>
                <a:latin typeface="Arial"/>
                <a:ea typeface="Arial"/>
              </a:rPr>
              <a:t> at the plus e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b00"/>
                </a:solidFill>
                <a:latin typeface="Arial"/>
                <a:ea typeface="Arial"/>
              </a:rPr>
              <a:t>net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isassembly</a:t>
            </a:r>
            <a:r>
              <a:rPr b="1" lang="en-US" sz="2400" spc="-1" strike="noStrike">
                <a:solidFill>
                  <a:srgbClr val="fcfb00"/>
                </a:solidFill>
                <a:latin typeface="Arial"/>
                <a:ea typeface="Arial"/>
              </a:rPr>
              <a:t> at the minus e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902600" y="4368960"/>
            <a:ext cx="5332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units “flux” through the poly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468960" y="222120"/>
            <a:ext cx="2193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85ff"/>
                </a:solidFill>
                <a:latin typeface="Arial"/>
                <a:ea typeface="Arial"/>
              </a:rPr>
              <a:t>Treadmil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 rot="10800000">
            <a:off x="2400120" y="1980720"/>
            <a:ext cx="842760" cy="506520"/>
          </a:xfrm>
          <a:prstGeom prst="pie">
            <a:avLst/>
          </a:prstGeom>
          <a:solidFill>
            <a:srgbClr val="f9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655720" y="1676520"/>
            <a:ext cx="4194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rot="10800000">
            <a:off x="3085920" y="1980720"/>
            <a:ext cx="842760" cy="506520"/>
          </a:xfrm>
          <a:prstGeom prst="pie">
            <a:avLst/>
          </a:prstGeom>
          <a:solidFill>
            <a:srgbClr val="f9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341520" y="1676520"/>
            <a:ext cx="4194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rot="10800000">
            <a:off x="3771720" y="1980720"/>
            <a:ext cx="842760" cy="506520"/>
          </a:xfrm>
          <a:prstGeom prst="pie">
            <a:avLst/>
          </a:prstGeom>
          <a:solidFill>
            <a:srgbClr val="f9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027320" y="1676520"/>
            <a:ext cx="4194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rot="10800000">
            <a:off x="4457520" y="1980720"/>
            <a:ext cx="842760" cy="506520"/>
          </a:xfrm>
          <a:prstGeom prst="pie">
            <a:avLst/>
          </a:prstGeom>
          <a:solidFill>
            <a:srgbClr val="f9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713120" y="1676520"/>
            <a:ext cx="4194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rot="10800000">
            <a:off x="5143320" y="1980720"/>
            <a:ext cx="842760" cy="506520"/>
          </a:xfrm>
          <a:prstGeom prst="pie">
            <a:avLst/>
          </a:prstGeom>
          <a:solidFill>
            <a:srgbClr val="f9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398920" y="1676520"/>
            <a:ext cx="4194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rot="10800000">
            <a:off x="5829120" y="1980720"/>
            <a:ext cx="842760" cy="506520"/>
          </a:xfrm>
          <a:prstGeom prst="pie">
            <a:avLst/>
          </a:prstGeom>
          <a:solidFill>
            <a:srgbClr val="fc009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084720" y="1676520"/>
            <a:ext cx="4194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7124760" y="1447920"/>
            <a:ext cx="914400" cy="542880"/>
          </a:xfrm>
          <a:prstGeom prst="pie">
            <a:avLst/>
          </a:prstGeom>
          <a:solidFill>
            <a:srgbClr val="fc009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416720" y="1143000"/>
            <a:ext cx="45720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rot="10800000">
            <a:off x="2400120" y="3352320"/>
            <a:ext cx="842760" cy="506520"/>
          </a:xfrm>
          <a:prstGeom prst="pie">
            <a:avLst/>
          </a:prstGeom>
          <a:solidFill>
            <a:srgbClr val="f9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655720" y="3048120"/>
            <a:ext cx="4194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rot="10800000">
            <a:off x="3085920" y="3352320"/>
            <a:ext cx="842760" cy="506520"/>
          </a:xfrm>
          <a:prstGeom prst="pie">
            <a:avLst/>
          </a:prstGeom>
          <a:solidFill>
            <a:srgbClr val="f9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341520" y="3048120"/>
            <a:ext cx="4194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rot="10800000">
            <a:off x="3771720" y="3352320"/>
            <a:ext cx="842760" cy="506520"/>
          </a:xfrm>
          <a:prstGeom prst="pie">
            <a:avLst/>
          </a:prstGeom>
          <a:solidFill>
            <a:srgbClr val="f9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027320" y="3048120"/>
            <a:ext cx="4194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rot="10800000">
            <a:off x="4457520" y="3352320"/>
            <a:ext cx="842760" cy="506520"/>
          </a:xfrm>
          <a:prstGeom prst="pie">
            <a:avLst/>
          </a:prstGeom>
          <a:solidFill>
            <a:srgbClr val="fc009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713120" y="3048120"/>
            <a:ext cx="4194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rot="10800000">
            <a:off x="5143320" y="3352320"/>
            <a:ext cx="842760" cy="506520"/>
          </a:xfrm>
          <a:prstGeom prst="pie">
            <a:avLst/>
          </a:prstGeom>
          <a:solidFill>
            <a:srgbClr val="f9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398920" y="3048120"/>
            <a:ext cx="4194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rot="10800000">
            <a:off x="5829120" y="3352320"/>
            <a:ext cx="842760" cy="506520"/>
          </a:xfrm>
          <a:prstGeom prst="pie">
            <a:avLst/>
          </a:prstGeom>
          <a:solidFill>
            <a:srgbClr val="f9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084720" y="3048120"/>
            <a:ext cx="4194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rot="10800000">
            <a:off x="2361960" y="4723920"/>
            <a:ext cx="842760" cy="506520"/>
          </a:xfrm>
          <a:prstGeom prst="pie">
            <a:avLst/>
          </a:prstGeom>
          <a:solidFill>
            <a:srgbClr val="fc009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617920" y="4419720"/>
            <a:ext cx="41904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rot="10800000">
            <a:off x="3047760" y="4723920"/>
            <a:ext cx="842760" cy="506520"/>
          </a:xfrm>
          <a:prstGeom prst="pie">
            <a:avLst/>
          </a:prstGeom>
          <a:solidFill>
            <a:srgbClr val="f9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303720" y="4419720"/>
            <a:ext cx="41904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rot="10800000">
            <a:off x="3733560" y="4723920"/>
            <a:ext cx="842760" cy="506520"/>
          </a:xfrm>
          <a:prstGeom prst="pie">
            <a:avLst/>
          </a:prstGeom>
          <a:solidFill>
            <a:srgbClr val="f9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989520" y="4419720"/>
            <a:ext cx="41904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rot="10800000">
            <a:off x="4419360" y="4723920"/>
            <a:ext cx="842760" cy="506520"/>
          </a:xfrm>
          <a:prstGeom prst="pie">
            <a:avLst/>
          </a:prstGeom>
          <a:solidFill>
            <a:srgbClr val="f9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675320" y="4419720"/>
            <a:ext cx="41904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rot="10800000">
            <a:off x="5105160" y="4723920"/>
            <a:ext cx="842760" cy="506520"/>
          </a:xfrm>
          <a:prstGeom prst="pie">
            <a:avLst/>
          </a:prstGeom>
          <a:solidFill>
            <a:srgbClr val="f9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361120" y="4419720"/>
            <a:ext cx="41904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rot="10800000">
            <a:off x="5790960" y="4723920"/>
            <a:ext cx="842760" cy="506520"/>
          </a:xfrm>
          <a:prstGeom prst="pie">
            <a:avLst/>
          </a:prstGeom>
          <a:solidFill>
            <a:srgbClr val="f9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046920" y="4419720"/>
            <a:ext cx="41904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>
            <a:off x="838080" y="2514600"/>
            <a:ext cx="914400" cy="542880"/>
          </a:xfrm>
          <a:prstGeom prst="pie">
            <a:avLst/>
          </a:prstGeom>
          <a:solidFill>
            <a:srgbClr val="f9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130400" y="2209680"/>
            <a:ext cx="45720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>
            <a:off x="838080" y="3962520"/>
            <a:ext cx="914400" cy="542880"/>
          </a:xfrm>
          <a:prstGeom prst="pie">
            <a:avLst/>
          </a:prstGeom>
          <a:solidFill>
            <a:srgbClr val="f9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130400" y="3657600"/>
            <a:ext cx="45720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>
            <a:off x="838080" y="5562720"/>
            <a:ext cx="914400" cy="542880"/>
          </a:xfrm>
          <a:prstGeom prst="pie">
            <a:avLst/>
          </a:prstGeom>
          <a:solidFill>
            <a:srgbClr val="fc009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130400" y="5257800"/>
            <a:ext cx="45720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H="1">
            <a:off x="7124760" y="2819520"/>
            <a:ext cx="914400" cy="542880"/>
          </a:xfrm>
          <a:prstGeom prst="pie">
            <a:avLst/>
          </a:prstGeom>
          <a:solidFill>
            <a:srgbClr val="f9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416720" y="2514600"/>
            <a:ext cx="45720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7124760" y="4267080"/>
            <a:ext cx="914400" cy="542880"/>
          </a:xfrm>
          <a:prstGeom prst="pie">
            <a:avLst/>
          </a:prstGeom>
          <a:solidFill>
            <a:srgbClr val="f9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416720" y="3962520"/>
            <a:ext cx="4572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481920" y="101520"/>
            <a:ext cx="2193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85ff"/>
                </a:solidFill>
                <a:latin typeface="Arial"/>
                <a:ea typeface="Arial"/>
              </a:rPr>
              <a:t>Treadmil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6705720" y="2057400"/>
            <a:ext cx="380880" cy="228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6705720" y="3276720"/>
            <a:ext cx="380880" cy="228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6629400" y="4724280"/>
            <a:ext cx="380880" cy="228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>
            <a:off x="1905120" y="5257800"/>
            <a:ext cx="380880" cy="228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1905120" y="3886200"/>
            <a:ext cx="380880" cy="228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H="1">
            <a:off x="1905120" y="2514600"/>
            <a:ext cx="380880" cy="228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285600" y="1143000"/>
            <a:ext cx="3765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454480" y="1066680"/>
            <a:ext cx="28368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419720" y="2743200"/>
            <a:ext cx="144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495680" y="4191120"/>
            <a:ext cx="180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1557000" y="135000"/>
            <a:ext cx="58903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85ff"/>
                </a:solidFill>
                <a:latin typeface="Arial"/>
                <a:ea typeface="Arial"/>
              </a:rPr>
              <a:t>Dynamic instability (microtubu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33520" y="1308240"/>
            <a:ext cx="8076960" cy="16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unit addition is faster than nucleotide hydro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b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  <a:ea typeface="Arial"/>
              </a:rPr>
              <a:t>CAP</a:t>
            </a:r>
            <a:r>
              <a:rPr b="1" lang="en-US" sz="2400" spc="-1" strike="noStrike">
                <a:solidFill>
                  <a:srgbClr val="fcfb00"/>
                </a:solidFill>
                <a:latin typeface="Arial"/>
                <a:ea typeface="Arial"/>
              </a:rPr>
              <a:t> of GTP-tubulin on polymer 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Doff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&gt;&gt;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off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 GTP 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  <a:ea typeface="Arial"/>
              </a:rPr>
              <a:t>CAP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favors grow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596960" y="3479760"/>
            <a:ext cx="594360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TP 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  <a:ea typeface="Arial"/>
              </a:rPr>
              <a:t>CAP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present: </a:t>
            </a:r>
            <a:r>
              <a:rPr b="1" lang="en-US" sz="2400" spc="-1" strike="noStrike">
                <a:solidFill>
                  <a:srgbClr val="00d100"/>
                </a:solidFill>
                <a:latin typeface="Arial"/>
                <a:ea typeface="Arial"/>
              </a:rPr>
              <a:t>grow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TP 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  <a:ea typeface="Arial"/>
              </a:rPr>
              <a:t>CAP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lost: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rapid disassem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731240" y="4902120"/>
            <a:ext cx="5672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b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cfb00"/>
                </a:solidFill>
                <a:latin typeface="Arial"/>
                <a:ea typeface="Arial"/>
              </a:rPr>
              <a:t>stochastic (unpredictable) tran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007280" y="5854680"/>
            <a:ext cx="7129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requency correlates with tubulin concen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" descr=""/>
          <p:cNvPicPr/>
          <p:nvPr/>
        </p:nvPicPr>
        <p:blipFill>
          <a:blip r:embed="rId1"/>
          <a:srcRect l="1292" t="0" r="45550" b="64554"/>
          <a:stretch/>
        </p:blipFill>
        <p:spPr>
          <a:xfrm>
            <a:off x="368280" y="584280"/>
            <a:ext cx="8399520" cy="544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2362320" y="4191120"/>
            <a:ext cx="274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971800" y="419112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733920" y="4191120"/>
            <a:ext cx="685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572000" y="4191120"/>
            <a:ext cx="609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410080" y="4191120"/>
            <a:ext cx="685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248520" y="4191120"/>
            <a:ext cx="685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-101520" y="139680"/>
            <a:ext cx="939780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85ff"/>
                </a:solidFill>
                <a:latin typeface="Arial"/>
                <a:ea typeface="Arial"/>
              </a:rPr>
              <a:t>Classic experiments by Mitchison and Kirschner 198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3885480" y="2209680"/>
            <a:ext cx="2590920" cy="17719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981080" y="1447920"/>
            <a:ext cx="1800" cy="2565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981080" y="4013280"/>
            <a:ext cx="54547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071880" y="4648320"/>
            <a:ext cx="3360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fb00"/>
                </a:solidFill>
                <a:latin typeface="Arial"/>
                <a:ea typeface="Arial"/>
              </a:rPr>
              <a:t>Tubulin concentration (μ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45960" y="2781360"/>
            <a:ext cx="1580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b00"/>
                </a:solidFill>
                <a:latin typeface="Arial"/>
                <a:ea typeface="Arial"/>
              </a:rPr>
              <a:t>[Polymeriz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b00"/>
                </a:solidFill>
                <a:latin typeface="Arial"/>
                <a:ea typeface="Arial"/>
              </a:rPr>
              <a:t>Microtubule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11240" y="5572080"/>
            <a:ext cx="891540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) determine steady state concentration (</a:t>
            </a:r>
            <a:r>
              <a:rPr b="1" lang="en-US" sz="2400" spc="-1" strike="noStrike">
                <a:solidFill>
                  <a:srgbClr val="00d100"/>
                </a:solidFill>
                <a:latin typeface="Arial"/>
                <a:ea typeface="Arial"/>
              </a:rPr>
              <a:t>Cs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) = 14 μ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1219320" y="1879200"/>
            <a:ext cx="1440" cy="609480"/>
          </a:xfrm>
          <a:prstGeom prst="line">
            <a:avLst/>
          </a:prstGeom>
          <a:ln w="50760">
            <a:solidFill>
              <a:srgbClr val="fcfb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381320" y="774720"/>
            <a:ext cx="638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crotubules nucleated from seeds - no l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469800" y="241200"/>
            <a:ext cx="8204400" cy="25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b00"/>
                </a:solidFill>
                <a:latin typeface="Arial"/>
                <a:ea typeface="Arial"/>
              </a:rPr>
              <a:t>2) dilution experim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ow microtubule see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ilute into tubulin solution above or below </a:t>
            </a:r>
            <a:r>
              <a:rPr b="1" lang="en-US" sz="2400" spc="-1" strike="noStrike">
                <a:solidFill>
                  <a:srgbClr val="00d100"/>
                </a:solidFill>
                <a:latin typeface="Arial"/>
                <a:ea typeface="Arial"/>
              </a:rPr>
              <a:t>C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ait 10 min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easure Mt number-concentration, Mt 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(spun onto EM gri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219240" y="2806560"/>
            <a:ext cx="8375400" cy="1552680"/>
            <a:chOff x="219240" y="2806560"/>
            <a:chExt cx="8375400" cy="1552680"/>
          </a:xfrm>
        </p:grpSpPr>
        <p:sp>
          <p:nvSpPr>
            <p:cNvPr id="503" name=""/>
            <p:cNvSpPr/>
            <p:nvPr/>
          </p:nvSpPr>
          <p:spPr>
            <a:xfrm>
              <a:off x="2897640" y="3225600"/>
              <a:ext cx="2199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ff00ff"/>
                  </a:solidFill>
                  <a:uFillTx/>
                  <a:latin typeface="Arial"/>
                  <a:ea typeface="Arial"/>
                </a:rPr>
                <a:t>before dilu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486400" y="3225600"/>
              <a:ext cx="106704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ff00ff"/>
                  </a:solidFill>
                  <a:uFillTx/>
                  <a:latin typeface="Arial"/>
                  <a:ea typeface="Arial"/>
                </a:rPr>
                <a:t>15 u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564320" y="3225600"/>
              <a:ext cx="1030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ff00ff"/>
                  </a:solidFill>
                  <a:uFillTx/>
                  <a:latin typeface="Arial"/>
                  <a:ea typeface="Arial"/>
                </a:rPr>
                <a:t>7.5 u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077000" y="2806560"/>
              <a:ext cx="414000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b00"/>
                  </a:solidFill>
                  <a:latin typeface="Arial"/>
                  <a:ea typeface="Arial"/>
                </a:rPr>
                <a:t>#concentration:     x10</a:t>
              </a:r>
              <a:r>
                <a:rPr b="1" lang="en-US" sz="2400" spc="-1" strike="noStrike" baseline="30000">
                  <a:solidFill>
                    <a:srgbClr val="fcfb00"/>
                  </a:solidFill>
                  <a:latin typeface="Arial"/>
                  <a:ea typeface="Arial"/>
                </a:rPr>
                <a:t>8</a:t>
              </a:r>
              <a:r>
                <a:rPr b="1" lang="en-US" sz="2400" spc="-1" strike="noStrike">
                  <a:solidFill>
                    <a:srgbClr val="fcfb00"/>
                  </a:solidFill>
                  <a:latin typeface="Arial"/>
                  <a:ea typeface="Arial"/>
                </a:rPr>
                <a:t>/m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19240" y="3914640"/>
              <a:ext cx="342900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b00"/>
                  </a:solidFill>
                  <a:latin typeface="Arial"/>
                  <a:ea typeface="Arial"/>
                </a:rPr>
                <a:t>average length: (μM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3495600" y="3606840"/>
            <a:ext cx="777960" cy="2172960"/>
            <a:chOff x="3495600" y="3606840"/>
            <a:chExt cx="777960" cy="2172960"/>
          </a:xfrm>
        </p:grpSpPr>
        <p:sp>
          <p:nvSpPr>
            <p:cNvPr id="509" name=""/>
            <p:cNvSpPr/>
            <p:nvPr/>
          </p:nvSpPr>
          <p:spPr>
            <a:xfrm flipV="1">
              <a:off x="4181400" y="5419440"/>
              <a:ext cx="92160" cy="258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0" name=""/>
            <p:cNvGrpSpPr/>
            <p:nvPr/>
          </p:nvGrpSpPr>
          <p:grpSpPr>
            <a:xfrm>
              <a:off x="3495600" y="3606840"/>
              <a:ext cx="753480" cy="2172960"/>
              <a:chOff x="3495600" y="3606840"/>
              <a:chExt cx="753480" cy="2172960"/>
            </a:xfrm>
          </p:grpSpPr>
          <p:sp>
            <p:nvSpPr>
              <p:cNvPr id="511" name=""/>
              <p:cNvSpPr/>
              <p:nvPr/>
            </p:nvSpPr>
            <p:spPr>
              <a:xfrm>
                <a:off x="3731040" y="3606840"/>
                <a:ext cx="4194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40680" tIns="0" bIns="0" anchor="t">
                <a:spAutoFit/>
              </a:bodyPr>
              <a:p>
                <a:pPr marL="396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731040" y="4292640"/>
                <a:ext cx="4194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40680" tIns="0" bIns="0" anchor="t">
                <a:spAutoFit/>
              </a:bodyPr>
              <a:p>
                <a:pPr marL="396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519360" y="5033880"/>
                <a:ext cx="273240" cy="399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flipV="1">
                <a:off x="4052160" y="4995720"/>
                <a:ext cx="196920" cy="191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flipH="1">
                <a:off x="3851280" y="5351400"/>
                <a:ext cx="218880" cy="1666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flipH="1" flipV="1">
                <a:off x="3495600" y="5343120"/>
                <a:ext cx="93600" cy="258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flipV="1">
                <a:off x="3676680" y="5698800"/>
                <a:ext cx="263520" cy="810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18" name=""/>
          <p:cNvGrpSpPr/>
          <p:nvPr/>
        </p:nvGrpSpPr>
        <p:grpSpPr>
          <a:xfrm>
            <a:off x="5361120" y="3606840"/>
            <a:ext cx="1293840" cy="2538000"/>
            <a:chOff x="5361120" y="3606840"/>
            <a:chExt cx="1293840" cy="2538000"/>
          </a:xfrm>
        </p:grpSpPr>
        <p:sp>
          <p:nvSpPr>
            <p:cNvPr id="519" name=""/>
            <p:cNvSpPr/>
            <p:nvPr/>
          </p:nvSpPr>
          <p:spPr>
            <a:xfrm>
              <a:off x="5713200" y="3606840"/>
              <a:ext cx="419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713200" y="4292640"/>
              <a:ext cx="419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V="1">
              <a:off x="5379480" y="4962600"/>
              <a:ext cx="514440" cy="334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V="1">
              <a:off x="5712120" y="5273280"/>
              <a:ext cx="614160" cy="17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361120" y="5459400"/>
              <a:ext cx="249120" cy="56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V="1">
              <a:off x="5997600" y="5638320"/>
              <a:ext cx="347760" cy="506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flipV="1">
              <a:off x="6602400" y="5205240"/>
              <a:ext cx="52560" cy="610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 flipV="1">
              <a:off x="5680080" y="5416560"/>
              <a:ext cx="449280" cy="417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7785000" y="3606840"/>
            <a:ext cx="870840" cy="1992240"/>
            <a:chOff x="7785000" y="3606840"/>
            <a:chExt cx="870840" cy="1992240"/>
          </a:xfrm>
        </p:grpSpPr>
        <p:sp>
          <p:nvSpPr>
            <p:cNvPr id="528" name=""/>
            <p:cNvSpPr/>
            <p:nvPr/>
          </p:nvSpPr>
          <p:spPr>
            <a:xfrm>
              <a:off x="7793640" y="3606840"/>
              <a:ext cx="419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793640" y="4292640"/>
              <a:ext cx="419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 flipV="1">
              <a:off x="8067240" y="5113440"/>
              <a:ext cx="273240" cy="334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V="1">
              <a:off x="8394120" y="5256360"/>
              <a:ext cx="261720" cy="342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V="1">
              <a:off x="7785000" y="5256360"/>
              <a:ext cx="262080" cy="342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3" name=""/>
          <p:cNvSpPr/>
          <p:nvPr/>
        </p:nvSpPr>
        <p:spPr>
          <a:xfrm>
            <a:off x="873000" y="6324480"/>
            <a:ext cx="71964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d100"/>
                </a:solidFill>
                <a:latin typeface="Arial"/>
                <a:ea typeface="Arial"/>
              </a:rPr>
              <a:t>size is dependent on the concentration of tubul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8801280" cy="6781680"/>
            <a:chOff x="0" y="0"/>
            <a:chExt cx="8801280" cy="6781680"/>
          </a:xfrm>
        </p:grpSpPr>
        <p:sp>
          <p:nvSpPr>
            <p:cNvPr id="49" name=""/>
            <p:cNvSpPr/>
            <p:nvPr/>
          </p:nvSpPr>
          <p:spPr>
            <a:xfrm>
              <a:off x="304920" y="2781360"/>
              <a:ext cx="8496360" cy="4000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" name="" descr=""/>
            <p:cNvPicPr/>
            <p:nvPr/>
          </p:nvPicPr>
          <p:blipFill>
            <a:blip r:embed="rId1"/>
            <a:srcRect l="0" t="54694" r="9023" b="42586"/>
            <a:stretch/>
          </p:blipFill>
          <p:spPr>
            <a:xfrm>
              <a:off x="0" y="0"/>
              <a:ext cx="8356680" cy="4229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638680" y="647640"/>
            <a:ext cx="2400480" cy="2024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495360" y="1143000"/>
            <a:ext cx="4368600" cy="888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-495360" y="203040"/>
            <a:ext cx="101221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50ff"/>
                </a:solidFill>
                <a:latin typeface="Arial"/>
                <a:ea typeface="Arial"/>
              </a:rPr>
              <a:t>Genetic Screens: Yeast ‘Cell Division Cycle’ (CDC) Mut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lecture 2.ppt_media/16.5um-2.mov" descr=""/>
          <p:cNvPicPr/>
          <p:nvPr/>
        </p:nvPicPr>
        <p:blipFill>
          <a:blip r:embed="rId1"/>
          <a:stretch/>
        </p:blipFill>
        <p:spPr>
          <a:xfrm>
            <a:off x="266760" y="1104840"/>
            <a:ext cx="8601120" cy="5118120"/>
          </a:xfrm>
          <a:prstGeom prst="rect">
            <a:avLst/>
          </a:prstGeom>
          <a:ln w="0">
            <a:noFill/>
          </a:ln>
        </p:spPr>
      </p:pic>
      <p:sp>
        <p:nvSpPr>
          <p:cNvPr id="535" name=""/>
          <p:cNvSpPr/>
          <p:nvPr/>
        </p:nvSpPr>
        <p:spPr>
          <a:xfrm>
            <a:off x="2268360" y="173160"/>
            <a:ext cx="4607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85ff"/>
                </a:solidFill>
                <a:latin typeface="Arial"/>
                <a:ea typeface="Arial"/>
              </a:rPr>
              <a:t>Dynamic instability in vit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" descr=""/>
          <p:cNvPicPr/>
          <p:nvPr/>
        </p:nvPicPr>
        <p:blipFill>
          <a:blip r:embed="rId1"/>
          <a:srcRect l="48564" t="0" r="0" b="1329"/>
          <a:stretch/>
        </p:blipFill>
        <p:spPr>
          <a:xfrm>
            <a:off x="5257800" y="76320"/>
            <a:ext cx="3586320" cy="669276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/>
          <p:nvPr/>
        </p:nvSpPr>
        <p:spPr>
          <a:xfrm>
            <a:off x="111240" y="2967120"/>
            <a:ext cx="485136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85ff"/>
                </a:solidFill>
                <a:latin typeface="Arial"/>
                <a:ea typeface="Arial"/>
              </a:rPr>
              <a:t>Microtubules are really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85ff"/>
                </a:solidFill>
                <a:latin typeface="Arial"/>
                <a:ea typeface="Arial"/>
              </a:rPr>
              <a:t>tubes, not simple polym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" descr=""/>
          <p:cNvPicPr/>
          <p:nvPr/>
        </p:nvPicPr>
        <p:blipFill>
          <a:blip r:embed="rId1"/>
          <a:srcRect l="0" t="0" r="0" b="12504"/>
          <a:stretch/>
        </p:blipFill>
        <p:spPr>
          <a:xfrm>
            <a:off x="254160" y="76320"/>
            <a:ext cx="8635680" cy="253980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2"/>
          <a:srcRect l="0" t="0" r="0" b="6813"/>
          <a:stretch/>
        </p:blipFill>
        <p:spPr>
          <a:xfrm>
            <a:off x="330120" y="2743200"/>
            <a:ext cx="8407440" cy="402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lecture 2.ppt_media/nogales_400x300_narrated-2.mov" descr=""/>
          <p:cNvPicPr/>
          <p:nvPr/>
        </p:nvPicPr>
        <p:blipFill>
          <a:blip r:embed="rId1"/>
          <a:stretch/>
        </p:blipFill>
        <p:spPr>
          <a:xfrm>
            <a:off x="419040" y="317520"/>
            <a:ext cx="8296200" cy="622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419400" y="3433680"/>
            <a:ext cx="2882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n-equilibriu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5560" y="1968480"/>
            <a:ext cx="919476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b00"/>
                </a:solidFill>
                <a:latin typeface="Arial"/>
                <a:ea typeface="Arial"/>
              </a:rPr>
              <a:t>exchange only at the en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b00"/>
                </a:solidFill>
                <a:latin typeface="Arial"/>
                <a:ea typeface="Arial"/>
              </a:rPr>
              <a:t>turnover only with dramatic changes in subunit concentr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720600" y="127080"/>
            <a:ext cx="1699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85ff"/>
                </a:solidFill>
                <a:latin typeface="Arial"/>
                <a:ea typeface="Arial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5560" y="3924360"/>
            <a:ext cx="953748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b00"/>
                </a:solidFill>
                <a:latin typeface="Arial"/>
                <a:ea typeface="Arial"/>
              </a:rPr>
              <a:t>Dynamic in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b00"/>
                </a:solidFill>
                <a:latin typeface="Arial"/>
                <a:ea typeface="Arial"/>
              </a:rPr>
              <a:t>Treadmil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b00"/>
                </a:solidFill>
                <a:latin typeface="Arial"/>
                <a:ea typeface="Arial"/>
              </a:rPr>
              <a:t>complete and rapid polymer turnover at steady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b00"/>
                </a:solidFill>
                <a:latin typeface="Arial"/>
                <a:ea typeface="Arial"/>
              </a:rPr>
              <a:t>energy requ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18680" y="1477800"/>
            <a:ext cx="3339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imple equilibriu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1407960" y="76320"/>
            <a:ext cx="6326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85ff"/>
                </a:solidFill>
                <a:latin typeface="Arial"/>
                <a:ea typeface="Arial"/>
              </a:rPr>
              <a:t>Polymer properties regulated in c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766080" y="901800"/>
            <a:ext cx="196164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) nucle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) pol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3) dynam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19280" y="3002040"/>
            <a:ext cx="6181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1)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Nucle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 kinetic barrier - slow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685800" y="4648320"/>
            <a:ext cx="1536840" cy="1143000"/>
            <a:chOff x="685800" y="4648320"/>
            <a:chExt cx="1536840" cy="1143000"/>
          </a:xfrm>
        </p:grpSpPr>
        <p:sp>
          <p:nvSpPr>
            <p:cNvPr id="550" name=""/>
            <p:cNvSpPr/>
            <p:nvPr/>
          </p:nvSpPr>
          <p:spPr>
            <a:xfrm>
              <a:off x="685800" y="5410440"/>
              <a:ext cx="15368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monom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143000" y="4648320"/>
              <a:ext cx="461880" cy="458640"/>
            </a:xfrm>
            <a:prstGeom prst="rect">
              <a:avLst/>
            </a:prstGeom>
            <a:solidFill>
              <a:srgbClr val="f9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1981080" y="4267080"/>
            <a:ext cx="2311560" cy="1523880"/>
            <a:chOff x="1981080" y="4267080"/>
            <a:chExt cx="2311560" cy="1523880"/>
          </a:xfrm>
        </p:grpSpPr>
        <p:sp>
          <p:nvSpPr>
            <p:cNvPr id="553" name=""/>
            <p:cNvSpPr/>
            <p:nvPr/>
          </p:nvSpPr>
          <p:spPr>
            <a:xfrm>
              <a:off x="3352680" y="5410080"/>
              <a:ext cx="9399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dim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098440" y="5013360"/>
              <a:ext cx="63972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371680" y="4838760"/>
              <a:ext cx="183960" cy="182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981080" y="4267080"/>
              <a:ext cx="461880" cy="458640"/>
            </a:xfrm>
            <a:prstGeom prst="rect">
              <a:avLst/>
            </a:prstGeom>
            <a:solidFill>
              <a:srgbClr val="f9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352680" y="4724280"/>
              <a:ext cx="461880" cy="458640"/>
            </a:xfrm>
            <a:prstGeom prst="rect">
              <a:avLst/>
            </a:prstGeom>
            <a:solidFill>
              <a:srgbClr val="f9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733560" y="4724280"/>
              <a:ext cx="462240" cy="458640"/>
            </a:xfrm>
            <a:prstGeom prst="rect">
              <a:avLst/>
            </a:prstGeom>
            <a:solidFill>
              <a:srgbClr val="f9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4572000" y="4265640"/>
            <a:ext cx="2959200" cy="1665360"/>
            <a:chOff x="4572000" y="4265640"/>
            <a:chExt cx="2959200" cy="1665360"/>
          </a:xfrm>
        </p:grpSpPr>
        <p:sp>
          <p:nvSpPr>
            <p:cNvPr id="560" name=""/>
            <p:cNvSpPr/>
            <p:nvPr/>
          </p:nvSpPr>
          <p:spPr>
            <a:xfrm>
              <a:off x="5486400" y="5257800"/>
              <a:ext cx="204480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trimer = nucleation si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800600" y="5021280"/>
              <a:ext cx="63972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073480" y="4846680"/>
              <a:ext cx="184320" cy="182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72000" y="4265640"/>
              <a:ext cx="461880" cy="458640"/>
            </a:xfrm>
            <a:prstGeom prst="rect">
              <a:avLst/>
            </a:prstGeom>
            <a:solidFill>
              <a:srgbClr val="f9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638680" y="4648320"/>
              <a:ext cx="462240" cy="458640"/>
            </a:xfrm>
            <a:prstGeom prst="rect">
              <a:avLst/>
            </a:prstGeom>
            <a:solidFill>
              <a:srgbClr val="f9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019920" y="4648320"/>
              <a:ext cx="461880" cy="458640"/>
            </a:xfrm>
            <a:prstGeom prst="rect">
              <a:avLst/>
            </a:prstGeom>
            <a:solidFill>
              <a:srgbClr val="f9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791320" y="4267080"/>
              <a:ext cx="461880" cy="459000"/>
            </a:xfrm>
            <a:prstGeom prst="rect">
              <a:avLst/>
            </a:prstGeom>
            <a:solidFill>
              <a:srgbClr val="f9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7" name=""/>
          <p:cNvSpPr/>
          <p:nvPr/>
        </p:nvSpPr>
        <p:spPr>
          <a:xfrm>
            <a:off x="7030440" y="3557520"/>
            <a:ext cx="18853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  <a:ea typeface="Arial"/>
              </a:rPr>
              <a:t>trimer for act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  <a:ea typeface="Arial"/>
              </a:rPr>
              <a:t>more compl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  <a:ea typeface="Arial"/>
              </a:rPr>
              <a:t>for microtob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" descr=""/>
          <p:cNvPicPr/>
          <p:nvPr/>
        </p:nvPicPr>
        <p:blipFill>
          <a:blip r:embed="rId1"/>
          <a:srcRect l="0" t="7608" r="0" b="0"/>
          <a:stretch/>
        </p:blipFill>
        <p:spPr>
          <a:xfrm>
            <a:off x="555480" y="1143000"/>
            <a:ext cx="8026560" cy="497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796320" y="5207040"/>
            <a:ext cx="5046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ctin: protein complexes (Arp2/3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171880" y="63360"/>
            <a:ext cx="48006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85ff"/>
                </a:solidFill>
                <a:latin typeface="Arial"/>
                <a:ea typeface="Arial"/>
              </a:rPr>
              <a:t>Nucleating factors in c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798120" y="0"/>
            <a:ext cx="6974280" cy="3606840"/>
            <a:chOff x="798120" y="0"/>
            <a:chExt cx="6974280" cy="3606840"/>
          </a:xfrm>
        </p:grpSpPr>
        <p:sp>
          <p:nvSpPr>
            <p:cNvPr id="572" name=""/>
            <p:cNvSpPr/>
            <p:nvPr/>
          </p:nvSpPr>
          <p:spPr>
            <a:xfrm>
              <a:off x="798120" y="2361960"/>
              <a:ext cx="4061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d100"/>
                  </a:solidFill>
                  <a:latin typeface="Arial"/>
                  <a:ea typeface="Arial"/>
                </a:rPr>
                <a:t>Microtubules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: </a:t>
              </a:r>
              <a:r>
                <a:rPr b="1" lang="en-US" sz="2400" spc="-1" strike="noStrike">
                  <a:solidFill>
                    <a:srgbClr val="fcfb00"/>
                  </a:solidFill>
                  <a:latin typeface="Arial"/>
                  <a:ea typeface="Arial"/>
                </a:rPr>
                <a:t>centrosom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3" name="" descr=""/>
            <p:cNvPicPr/>
            <p:nvPr/>
          </p:nvPicPr>
          <p:blipFill>
            <a:blip r:embed="rId1">
              <a:lum contrast="32000"/>
            </a:blip>
            <a:srcRect l="2717" t="6471" r="2591" b="2561"/>
            <a:stretch/>
          </p:blipFill>
          <p:spPr>
            <a:xfrm>
              <a:off x="4584600" y="0"/>
              <a:ext cx="3187800" cy="36068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1023480" y="141120"/>
            <a:ext cx="7076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85ff"/>
                </a:solidFill>
                <a:latin typeface="Arial"/>
                <a:ea typeface="Arial"/>
              </a:rPr>
              <a:t>2) Polarity: due to asymmetry of subun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002320" y="1828800"/>
            <a:ext cx="528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uctural polarity of polymer lat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52280" y="2666880"/>
            <a:ext cx="89917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isualized by decoration of actin filaments and microtub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52280" y="3641760"/>
            <a:ext cx="899172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llows cell to generate asymmetric structures and sha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is of mot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" descr=""/>
          <p:cNvPicPr/>
          <p:nvPr/>
        </p:nvPicPr>
        <p:blipFill>
          <a:blip r:embed="rId1"/>
          <a:stretch/>
        </p:blipFill>
        <p:spPr>
          <a:xfrm>
            <a:off x="279360" y="1486080"/>
            <a:ext cx="8686800" cy="3298680"/>
          </a:xfrm>
          <a:prstGeom prst="rect">
            <a:avLst/>
          </a:prstGeom>
          <a:ln w="0">
            <a:noFill/>
          </a:ln>
        </p:spPr>
      </p:pic>
      <p:sp>
        <p:nvSpPr>
          <p:cNvPr id="579" name=""/>
          <p:cNvSpPr/>
          <p:nvPr/>
        </p:nvSpPr>
        <p:spPr>
          <a:xfrm>
            <a:off x="888840" y="5092560"/>
            <a:ext cx="7467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ctin decorated with myosin subfragment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034000" y="190440"/>
            <a:ext cx="51253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85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d685ff"/>
                </a:solidFill>
                <a:latin typeface="Arial"/>
                <a:ea typeface="Arial"/>
              </a:rPr>
              <a:t>Actin lattice polarity revea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-622440" y="127080"/>
            <a:ext cx="702324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50ff"/>
                </a:solidFill>
                <a:latin typeface="Arial"/>
                <a:ea typeface="Arial"/>
              </a:rPr>
              <a:t>In vitro Dissection of the Cell Cycle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50ff"/>
                </a:solidFill>
                <a:latin typeface="Arial"/>
                <a:ea typeface="Arial"/>
              </a:rPr>
              <a:t>Xenopus Egg Extra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17520" y="1104840"/>
            <a:ext cx="3873600" cy="16128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17520" y="2857680"/>
            <a:ext cx="8502480" cy="31492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165320" y="6070680"/>
            <a:ext cx="6810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use to isolate proteins present at particular st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anipulate proteins-deplete and observe changes to cell cy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0" y="127080"/>
            <a:ext cx="8625960" cy="2603520"/>
            <a:chOff x="0" y="127080"/>
            <a:chExt cx="8625960" cy="2603520"/>
          </a:xfrm>
        </p:grpSpPr>
        <p:pic>
          <p:nvPicPr>
            <p:cNvPr id="59" name="" descr=""/>
            <p:cNvPicPr/>
            <p:nvPr/>
          </p:nvPicPr>
          <p:blipFill>
            <a:blip r:embed="rId3"/>
            <a:stretch/>
          </p:blipFill>
          <p:spPr>
            <a:xfrm>
              <a:off x="0" y="406440"/>
              <a:ext cx="3556080" cy="232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6035400" y="127080"/>
              <a:ext cx="92664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Arial"/>
                  <a:ea typeface="Arial"/>
                </a:rPr>
                <a:t>D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076880" y="127080"/>
              <a:ext cx="154908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Tubul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" descr=""/>
          <p:cNvPicPr/>
          <p:nvPr/>
        </p:nvPicPr>
        <p:blipFill>
          <a:blip r:embed="rId1"/>
          <a:srcRect l="0" t="7608" r="0" b="0"/>
          <a:stretch/>
        </p:blipFill>
        <p:spPr>
          <a:xfrm>
            <a:off x="558720" y="1143000"/>
            <a:ext cx="8026560" cy="4975200"/>
          </a:xfrm>
          <a:prstGeom prst="rect">
            <a:avLst/>
          </a:prstGeom>
          <a:ln w="0">
            <a:noFill/>
          </a:ln>
        </p:spPr>
      </p:pic>
      <p:sp>
        <p:nvSpPr>
          <p:cNvPr id="582" name=""/>
          <p:cNvSpPr/>
          <p:nvPr/>
        </p:nvSpPr>
        <p:spPr>
          <a:xfrm>
            <a:off x="644040" y="114480"/>
            <a:ext cx="7850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85ff"/>
                </a:solidFill>
                <a:latin typeface="Arial"/>
                <a:ea typeface="Arial"/>
              </a:rPr>
              <a:t>actin structural and dynamic polarity revea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" descr=""/>
          <p:cNvPicPr/>
          <p:nvPr/>
        </p:nvPicPr>
        <p:blipFill>
          <a:blip r:embed="rId1"/>
          <a:stretch/>
        </p:blipFill>
        <p:spPr>
          <a:xfrm>
            <a:off x="1879560" y="685800"/>
            <a:ext cx="5372280" cy="4876920"/>
          </a:xfrm>
          <a:prstGeom prst="rect">
            <a:avLst/>
          </a:prstGeom>
          <a:ln w="0">
            <a:noFill/>
          </a:ln>
        </p:spPr>
      </p:pic>
      <p:sp>
        <p:nvSpPr>
          <p:cNvPr id="584" name=""/>
          <p:cNvSpPr/>
          <p:nvPr/>
        </p:nvSpPr>
        <p:spPr>
          <a:xfrm>
            <a:off x="0" y="5567400"/>
            <a:ext cx="90676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icrotubules decorated and viewed in cross s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-177840" y="203040"/>
            <a:ext cx="94870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d685ff"/>
                </a:solidFill>
                <a:latin typeface="Arial"/>
                <a:ea typeface="Arial"/>
              </a:rPr>
              <a:t>Microtubule lattice polarity revealed by hook direc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" descr=""/>
          <p:cNvPicPr/>
          <p:nvPr/>
        </p:nvPicPr>
        <p:blipFill>
          <a:blip r:embed="rId1"/>
          <a:srcRect l="0" t="4439" r="0" b="0"/>
          <a:stretch/>
        </p:blipFill>
        <p:spPr>
          <a:xfrm>
            <a:off x="0" y="0"/>
            <a:ext cx="4916520" cy="6553080"/>
          </a:xfrm>
          <a:prstGeom prst="rect">
            <a:avLst/>
          </a:prstGeom>
          <a:ln w="0">
            <a:noFill/>
          </a:ln>
        </p:spPr>
      </p:pic>
      <p:sp>
        <p:nvSpPr>
          <p:cNvPr id="587" name=""/>
          <p:cNvSpPr/>
          <p:nvPr/>
        </p:nvSpPr>
        <p:spPr>
          <a:xfrm>
            <a:off x="5140440" y="2590920"/>
            <a:ext cx="3825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crotub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ynamic polarity revea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343080" y="254160"/>
            <a:ext cx="84582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85ff"/>
                </a:solidFill>
                <a:latin typeface="Arial"/>
                <a:ea typeface="Arial"/>
              </a:rPr>
              <a:t>Motor proteins recognize polymer asymme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167480" y="2117880"/>
            <a:ext cx="65185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b00"/>
                </a:solidFill>
                <a:latin typeface="Arial"/>
                <a:ea typeface="Arial"/>
              </a:rPr>
              <a:t>mechanochemical enzy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ydrolyze ATP to move along fila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e force or carry car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164960" y="4114800"/>
            <a:ext cx="4691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b00"/>
                </a:solidFill>
                <a:latin typeface="Arial"/>
                <a:ea typeface="Arial"/>
              </a:rPr>
              <a:t>polarity generates direction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027520" y="5816520"/>
            <a:ext cx="5084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  <a:ea typeface="Arial"/>
              </a:rPr>
              <a:t>more on motors in later lectures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/>
          <p:nvPr/>
        </p:nvSpPr>
        <p:spPr>
          <a:xfrm>
            <a:off x="3195360" y="128520"/>
            <a:ext cx="2136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85ff"/>
                </a:solidFill>
                <a:latin typeface="Arial"/>
                <a:ea typeface="Arial"/>
              </a:rPr>
              <a:t>3)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432080" y="1736640"/>
            <a:ext cx="567684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b00"/>
                </a:solidFill>
                <a:latin typeface="Arial"/>
                <a:ea typeface="Arial"/>
              </a:rPr>
              <a:t>regulated by many cellular f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394720" y="2435400"/>
            <a:ext cx="3740040" cy="131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-cap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unit sequest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olymer binding prote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407680" y="4619520"/>
            <a:ext cx="3723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  <a:ea typeface="Arial"/>
              </a:rPr>
              <a:t>regulators also regu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2563560" y="268200"/>
            <a:ext cx="40082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85ff"/>
                </a:solidFill>
                <a:latin typeface="Arial"/>
                <a:ea typeface="Arial"/>
              </a:rPr>
              <a:t>MT dynamics in </a:t>
            </a:r>
            <a:r>
              <a:rPr b="1" i="1" lang="en-US" sz="2800" spc="-1" strike="noStrike">
                <a:solidFill>
                  <a:srgbClr val="d685ff"/>
                </a:solidFill>
                <a:latin typeface="Arial"/>
                <a:ea typeface="Arial"/>
              </a:rPr>
              <a:t>pom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864360" y="1181160"/>
            <a:ext cx="7405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ole in nuclear positioning and de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8" name="lecture 2.ppt_media/microtubule-formation-2.mov" descr=""/>
          <p:cNvPicPr/>
          <p:nvPr/>
        </p:nvPicPr>
        <p:blipFill>
          <a:blip r:embed="rId1"/>
          <a:stretch/>
        </p:blipFill>
        <p:spPr>
          <a:xfrm>
            <a:off x="2197080" y="4711680"/>
            <a:ext cx="4749840" cy="1498680"/>
          </a:xfrm>
          <a:prstGeom prst="rect">
            <a:avLst/>
          </a:prstGeom>
          <a:ln w="0">
            <a:noFill/>
          </a:ln>
        </p:spPr>
      </p:pic>
      <p:sp>
        <p:nvSpPr>
          <p:cNvPr id="599" name=""/>
          <p:cNvSpPr/>
          <p:nvPr/>
        </p:nvSpPr>
        <p:spPr>
          <a:xfrm>
            <a:off x="1440" y="3720960"/>
            <a:ext cx="91314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vement of kinesin motors on growing and shrinking M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0" name="lecture 2.ppt_media/JCB0012029.V7-2.mov" descr=""/>
          <p:cNvPicPr/>
          <p:nvPr/>
        </p:nvPicPr>
        <p:blipFill>
          <a:blip r:embed="rId2"/>
          <a:stretch/>
        </p:blipFill>
        <p:spPr>
          <a:xfrm>
            <a:off x="3733920" y="-12600"/>
            <a:ext cx="1676160" cy="520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2080440" y="255600"/>
            <a:ext cx="54590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85ff"/>
                </a:solidFill>
                <a:latin typeface="Arial"/>
                <a:ea typeface="Arial"/>
              </a:rPr>
              <a:t>MT dynamics in vertebrate c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010960" y="1028880"/>
            <a:ext cx="5594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mpact of destabilization of act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3" name="lecture 2.ppt_media/fig51-3.mov" descr=""/>
          <p:cNvPicPr/>
          <p:nvPr/>
        </p:nvPicPr>
        <p:blipFill>
          <a:blip r:embed="rId1"/>
          <a:stretch/>
        </p:blipFill>
        <p:spPr>
          <a:xfrm>
            <a:off x="-266760" y="1523880"/>
            <a:ext cx="5079960" cy="5079960"/>
          </a:xfrm>
          <a:prstGeom prst="rect">
            <a:avLst/>
          </a:prstGeom>
          <a:ln w="0">
            <a:noFill/>
          </a:ln>
        </p:spPr>
      </p:pic>
      <p:pic>
        <p:nvPicPr>
          <p:cNvPr id="604" name="lecture 2.ppt_media/fig52-2.mov" descr=""/>
          <p:cNvPicPr/>
          <p:nvPr/>
        </p:nvPicPr>
        <p:blipFill>
          <a:blip r:embed="rId2"/>
          <a:stretch/>
        </p:blipFill>
        <p:spPr>
          <a:xfrm>
            <a:off x="5270400" y="2158920"/>
            <a:ext cx="3175200" cy="420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 rot="10800000">
            <a:off x="2133360" y="1676520"/>
            <a:ext cx="842760" cy="506160"/>
          </a:xfrm>
          <a:prstGeom prst="pie">
            <a:avLst/>
          </a:prstGeom>
          <a:solidFill>
            <a:srgbClr val="f9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401920" y="1333440"/>
            <a:ext cx="41904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rot="10800000">
            <a:off x="2819160" y="1676520"/>
            <a:ext cx="842760" cy="506160"/>
          </a:xfrm>
          <a:prstGeom prst="pie">
            <a:avLst/>
          </a:prstGeom>
          <a:solidFill>
            <a:srgbClr val="f9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087720" y="1333440"/>
            <a:ext cx="41904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rot="10800000">
            <a:off x="3504960" y="1676520"/>
            <a:ext cx="842760" cy="506160"/>
          </a:xfrm>
          <a:prstGeom prst="pie">
            <a:avLst/>
          </a:prstGeom>
          <a:solidFill>
            <a:srgbClr val="f9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773520" y="1333440"/>
            <a:ext cx="41904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rot="10800000">
            <a:off x="4190760" y="1676520"/>
            <a:ext cx="842760" cy="506160"/>
          </a:xfrm>
          <a:prstGeom prst="pie">
            <a:avLst/>
          </a:prstGeom>
          <a:solidFill>
            <a:srgbClr val="f9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459320" y="1333440"/>
            <a:ext cx="41904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rot="10800000">
            <a:off x="4876560" y="1676520"/>
            <a:ext cx="842760" cy="506160"/>
          </a:xfrm>
          <a:prstGeom prst="pie">
            <a:avLst/>
          </a:prstGeom>
          <a:solidFill>
            <a:srgbClr val="f9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145120" y="1333440"/>
            <a:ext cx="41904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rot="10800000">
            <a:off x="5562360" y="1676520"/>
            <a:ext cx="842760" cy="506160"/>
          </a:xfrm>
          <a:prstGeom prst="pie">
            <a:avLst/>
          </a:prstGeom>
          <a:solidFill>
            <a:srgbClr val="fc009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830920" y="1333440"/>
            <a:ext cx="41904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rot="10800000">
            <a:off x="2590560" y="2133720"/>
            <a:ext cx="842760" cy="506160"/>
          </a:xfrm>
          <a:prstGeom prst="pie">
            <a:avLst/>
          </a:prstGeom>
          <a:solidFill>
            <a:srgbClr val="f9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846520" y="1816200"/>
            <a:ext cx="41904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rot="10800000">
            <a:off x="3276360" y="2133720"/>
            <a:ext cx="842760" cy="506160"/>
          </a:xfrm>
          <a:prstGeom prst="pie">
            <a:avLst/>
          </a:prstGeom>
          <a:solidFill>
            <a:srgbClr val="f9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532320" y="1816200"/>
            <a:ext cx="41904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rot="10800000">
            <a:off x="3962160" y="2133720"/>
            <a:ext cx="842760" cy="506160"/>
          </a:xfrm>
          <a:prstGeom prst="pie">
            <a:avLst/>
          </a:prstGeom>
          <a:solidFill>
            <a:srgbClr val="f9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218120" y="1816200"/>
            <a:ext cx="41904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rot="10800000">
            <a:off x="4647960" y="2133720"/>
            <a:ext cx="842760" cy="506160"/>
          </a:xfrm>
          <a:prstGeom prst="pie">
            <a:avLst/>
          </a:prstGeom>
          <a:solidFill>
            <a:srgbClr val="f9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903920" y="1816200"/>
            <a:ext cx="41904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rot="10800000">
            <a:off x="5333760" y="2133720"/>
            <a:ext cx="842760" cy="506160"/>
          </a:xfrm>
          <a:prstGeom prst="pie">
            <a:avLst/>
          </a:prstGeom>
          <a:solidFill>
            <a:srgbClr val="f9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589720" y="1816200"/>
            <a:ext cx="41904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rot="10800000">
            <a:off x="6019560" y="2133720"/>
            <a:ext cx="842760" cy="506160"/>
          </a:xfrm>
          <a:prstGeom prst="pie">
            <a:avLst/>
          </a:prstGeom>
          <a:solidFill>
            <a:srgbClr val="fc009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275520" y="1816200"/>
            <a:ext cx="41904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rot="10800000">
            <a:off x="2057400" y="2666520"/>
            <a:ext cx="843120" cy="506520"/>
          </a:xfrm>
          <a:prstGeom prst="pie">
            <a:avLst/>
          </a:prstGeom>
          <a:solidFill>
            <a:srgbClr val="f9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338560" y="2374920"/>
            <a:ext cx="41904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rot="10800000">
            <a:off x="2743200" y="2666520"/>
            <a:ext cx="843120" cy="506520"/>
          </a:xfrm>
          <a:prstGeom prst="pie">
            <a:avLst/>
          </a:prstGeom>
          <a:solidFill>
            <a:srgbClr val="f9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024360" y="2374920"/>
            <a:ext cx="41904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rot="10800000">
            <a:off x="3429000" y="2666520"/>
            <a:ext cx="843120" cy="506520"/>
          </a:xfrm>
          <a:prstGeom prst="pie">
            <a:avLst/>
          </a:prstGeom>
          <a:solidFill>
            <a:srgbClr val="f9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710160" y="2374920"/>
            <a:ext cx="41904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rot="10800000">
            <a:off x="4114800" y="2666520"/>
            <a:ext cx="843120" cy="506520"/>
          </a:xfrm>
          <a:prstGeom prst="pie">
            <a:avLst/>
          </a:prstGeom>
          <a:solidFill>
            <a:srgbClr val="f9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395960" y="2374920"/>
            <a:ext cx="41904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 rot="10800000">
            <a:off x="4800600" y="2666520"/>
            <a:ext cx="843120" cy="506520"/>
          </a:xfrm>
          <a:prstGeom prst="pie">
            <a:avLst/>
          </a:prstGeom>
          <a:solidFill>
            <a:srgbClr val="f9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081760" y="2374920"/>
            <a:ext cx="41904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rot="10800000">
            <a:off x="5486400" y="2666520"/>
            <a:ext cx="843120" cy="506520"/>
          </a:xfrm>
          <a:prstGeom prst="pie">
            <a:avLst/>
          </a:prstGeom>
          <a:solidFill>
            <a:srgbClr val="fc009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767560" y="2374920"/>
            <a:ext cx="41904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7391520" y="1676520"/>
            <a:ext cx="914400" cy="542880"/>
          </a:xfrm>
          <a:prstGeom prst="pie">
            <a:avLst/>
          </a:prstGeom>
          <a:solidFill>
            <a:srgbClr val="fc009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772400" y="1384200"/>
            <a:ext cx="45720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7010280" y="2819520"/>
            <a:ext cx="914400" cy="542880"/>
          </a:xfrm>
          <a:prstGeom prst="pie">
            <a:avLst/>
          </a:prstGeom>
          <a:solidFill>
            <a:srgbClr val="fc009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391520" y="2527200"/>
            <a:ext cx="45720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H="1">
            <a:off x="6629040" y="1828800"/>
            <a:ext cx="609480" cy="152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 flipV="1">
            <a:off x="6451560" y="2857680"/>
            <a:ext cx="45720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69880" y="2057400"/>
            <a:ext cx="12668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d100"/>
                </a:solidFill>
                <a:latin typeface="Arial"/>
                <a:ea typeface="Arial"/>
              </a:rPr>
              <a:t>gro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970360" y="50760"/>
            <a:ext cx="3322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85ff"/>
                </a:solidFill>
                <a:latin typeface="Arial"/>
                <a:ea typeface="Arial"/>
              </a:rPr>
              <a:t>Dynamic In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2627640" y="3352680"/>
            <a:ext cx="1807560" cy="749160"/>
            <a:chOff x="2627640" y="3352680"/>
            <a:chExt cx="1807560" cy="749160"/>
          </a:xfrm>
        </p:grpSpPr>
        <p:sp>
          <p:nvSpPr>
            <p:cNvPr id="650" name=""/>
            <p:cNvSpPr/>
            <p:nvPr/>
          </p:nvSpPr>
          <p:spPr>
            <a:xfrm>
              <a:off x="3606480" y="379728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627640" y="3352680"/>
              <a:ext cx="1807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atastrop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4989960" y="3441240"/>
            <a:ext cx="1062360" cy="658440"/>
            <a:chOff x="4989960" y="3441240"/>
            <a:chExt cx="1062360" cy="658440"/>
          </a:xfrm>
        </p:grpSpPr>
        <p:sp>
          <p:nvSpPr>
            <p:cNvPr id="653" name=""/>
            <p:cNvSpPr/>
            <p:nvPr/>
          </p:nvSpPr>
          <p:spPr>
            <a:xfrm>
              <a:off x="4989960" y="3733560"/>
              <a:ext cx="1062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rescu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V="1">
              <a:off x="5587920" y="3441240"/>
              <a:ext cx="1440" cy="304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417240" y="3886200"/>
            <a:ext cx="7570800" cy="2117880"/>
            <a:chOff x="417240" y="3886200"/>
            <a:chExt cx="7570800" cy="2117880"/>
          </a:xfrm>
        </p:grpSpPr>
        <p:grpSp>
          <p:nvGrpSpPr>
            <p:cNvPr id="656" name=""/>
            <p:cNvGrpSpPr/>
            <p:nvPr/>
          </p:nvGrpSpPr>
          <p:grpSpPr>
            <a:xfrm>
              <a:off x="7073640" y="3886200"/>
              <a:ext cx="914400" cy="835200"/>
              <a:chOff x="7073640" y="3886200"/>
              <a:chExt cx="914400" cy="835200"/>
            </a:xfrm>
          </p:grpSpPr>
          <p:sp>
            <p:nvSpPr>
              <p:cNvPr id="657" name=""/>
              <p:cNvSpPr/>
              <p:nvPr/>
            </p:nvSpPr>
            <p:spPr>
              <a:xfrm flipH="1">
                <a:off x="7073640" y="4178160"/>
                <a:ext cx="914400" cy="543240"/>
              </a:xfrm>
              <a:prstGeom prst="pie">
                <a:avLst/>
              </a:prstGeom>
              <a:solidFill>
                <a:srgbClr val="f9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7454520" y="3886200"/>
                <a:ext cx="457200" cy="80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4068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  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9" name=""/>
            <p:cNvGrpSpPr/>
            <p:nvPr/>
          </p:nvGrpSpPr>
          <p:grpSpPr>
            <a:xfrm>
              <a:off x="7073640" y="5168880"/>
              <a:ext cx="914400" cy="835200"/>
              <a:chOff x="7073640" y="5168880"/>
              <a:chExt cx="914400" cy="835200"/>
            </a:xfrm>
          </p:grpSpPr>
          <p:sp>
            <p:nvSpPr>
              <p:cNvPr id="660" name=""/>
              <p:cNvSpPr/>
              <p:nvPr/>
            </p:nvSpPr>
            <p:spPr>
              <a:xfrm flipH="1">
                <a:off x="7073640" y="5460840"/>
                <a:ext cx="914400" cy="543240"/>
              </a:xfrm>
              <a:prstGeom prst="pie">
                <a:avLst/>
              </a:prstGeom>
              <a:solidFill>
                <a:srgbClr val="f9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7454520" y="5168880"/>
                <a:ext cx="457200" cy="80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4068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  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2" name=""/>
            <p:cNvSpPr/>
            <p:nvPr/>
          </p:nvSpPr>
          <p:spPr>
            <a:xfrm>
              <a:off x="6514920" y="5435640"/>
              <a:ext cx="381240" cy="228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flipV="1">
              <a:off x="6514200" y="4444560"/>
              <a:ext cx="381240" cy="228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17240" y="4724280"/>
              <a:ext cx="1452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shrink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rot="10800000">
              <a:off x="2044440" y="4330800"/>
              <a:ext cx="843120" cy="506160"/>
            </a:xfrm>
            <a:prstGeom prst="pie">
              <a:avLst/>
            </a:prstGeom>
            <a:solidFill>
              <a:srgbClr val="f9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313000" y="3987720"/>
              <a:ext cx="41904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rot="10800000">
              <a:off x="2730240" y="4330800"/>
              <a:ext cx="843120" cy="506160"/>
            </a:xfrm>
            <a:prstGeom prst="pie">
              <a:avLst/>
            </a:prstGeom>
            <a:solidFill>
              <a:srgbClr val="f9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998800" y="3987720"/>
              <a:ext cx="41904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rot="10800000">
              <a:off x="3416040" y="4330800"/>
              <a:ext cx="843120" cy="506160"/>
            </a:xfrm>
            <a:prstGeom prst="pie">
              <a:avLst/>
            </a:prstGeom>
            <a:solidFill>
              <a:srgbClr val="f9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684600" y="3987720"/>
              <a:ext cx="41904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rot="10800000">
              <a:off x="4101840" y="4330800"/>
              <a:ext cx="843120" cy="506160"/>
            </a:xfrm>
            <a:prstGeom prst="pie">
              <a:avLst/>
            </a:prstGeom>
            <a:solidFill>
              <a:srgbClr val="f9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370400" y="3987720"/>
              <a:ext cx="41904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rot="10800000">
              <a:off x="4787640" y="4330800"/>
              <a:ext cx="843120" cy="506160"/>
            </a:xfrm>
            <a:prstGeom prst="pie">
              <a:avLst/>
            </a:prstGeom>
            <a:solidFill>
              <a:srgbClr val="f9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056200" y="3987720"/>
              <a:ext cx="41904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rot="10800000">
              <a:off x="2501640" y="4788000"/>
              <a:ext cx="843120" cy="506160"/>
            </a:xfrm>
            <a:prstGeom prst="pie">
              <a:avLst/>
            </a:prstGeom>
            <a:solidFill>
              <a:srgbClr val="f9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757240" y="4470480"/>
              <a:ext cx="419400" cy="79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rot="10800000">
              <a:off x="3187440" y="4788000"/>
              <a:ext cx="843120" cy="506160"/>
            </a:xfrm>
            <a:prstGeom prst="pie">
              <a:avLst/>
            </a:prstGeom>
            <a:solidFill>
              <a:srgbClr val="f9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443040" y="4470480"/>
              <a:ext cx="419400" cy="79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rot="10800000">
              <a:off x="3873240" y="4788000"/>
              <a:ext cx="843120" cy="506160"/>
            </a:xfrm>
            <a:prstGeom prst="pie">
              <a:avLst/>
            </a:prstGeom>
            <a:solidFill>
              <a:srgbClr val="f9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128840" y="4470480"/>
              <a:ext cx="419400" cy="79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rot="10800000">
              <a:off x="4559040" y="4788000"/>
              <a:ext cx="843120" cy="506160"/>
            </a:xfrm>
            <a:prstGeom prst="pie">
              <a:avLst/>
            </a:prstGeom>
            <a:solidFill>
              <a:srgbClr val="f9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814640" y="4470480"/>
              <a:ext cx="419400" cy="79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rot="10800000">
              <a:off x="5244840" y="4788000"/>
              <a:ext cx="843120" cy="506160"/>
            </a:xfrm>
            <a:prstGeom prst="pie">
              <a:avLst/>
            </a:prstGeom>
            <a:solidFill>
              <a:srgbClr val="f9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500440" y="4470480"/>
              <a:ext cx="419400" cy="79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10800000">
              <a:off x="1968120" y="5320800"/>
              <a:ext cx="842760" cy="506520"/>
            </a:xfrm>
            <a:prstGeom prst="pie">
              <a:avLst/>
            </a:prstGeom>
            <a:solidFill>
              <a:srgbClr val="f9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249280" y="5029200"/>
              <a:ext cx="41904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rot="10800000">
              <a:off x="2653920" y="5320800"/>
              <a:ext cx="842760" cy="506520"/>
            </a:xfrm>
            <a:prstGeom prst="pie">
              <a:avLst/>
            </a:prstGeom>
            <a:solidFill>
              <a:srgbClr val="f9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935080" y="5029200"/>
              <a:ext cx="41904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rot="10800000">
              <a:off x="3339720" y="5320800"/>
              <a:ext cx="842760" cy="506520"/>
            </a:xfrm>
            <a:prstGeom prst="pie">
              <a:avLst/>
            </a:prstGeom>
            <a:solidFill>
              <a:srgbClr val="f9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620880" y="5029200"/>
              <a:ext cx="41904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rot="10800000">
              <a:off x="4025520" y="5320800"/>
              <a:ext cx="842760" cy="506520"/>
            </a:xfrm>
            <a:prstGeom prst="pie">
              <a:avLst/>
            </a:prstGeom>
            <a:solidFill>
              <a:srgbClr val="f9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306680" y="5029200"/>
              <a:ext cx="41904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rot="10800000">
              <a:off x="4711320" y="5320800"/>
              <a:ext cx="842760" cy="506520"/>
            </a:xfrm>
            <a:prstGeom prst="pie">
              <a:avLst/>
            </a:prstGeom>
            <a:solidFill>
              <a:srgbClr val="f9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992480" y="5029200"/>
              <a:ext cx="41904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040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627720" y="122400"/>
            <a:ext cx="1887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85ff"/>
                </a:solidFill>
                <a:latin typeface="Arial"/>
                <a:ea typeface="Arial"/>
              </a:rPr>
              <a:t>Lecture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057040" y="685800"/>
            <a:ext cx="5017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85ff"/>
                </a:solidFill>
                <a:latin typeface="Trebuchet MS"/>
                <a:ea typeface="Trebuchet MS"/>
              </a:rPr>
              <a:t>Introduction to the Cytoskele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39680" y="1685880"/>
            <a:ext cx="6019920" cy="24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cfb00"/>
                </a:solidFill>
                <a:uFillTx/>
                <a:latin typeface="Arial"/>
                <a:ea typeface="Arial"/>
              </a:rPr>
              <a:t>Outli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6ff"/>
                </a:solidFill>
                <a:latin typeface="Arial"/>
                <a:ea typeface="Arial"/>
              </a:rPr>
              <a:t>Composition of the cytoskeleton Polymer Dynamics in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6ff"/>
                </a:solidFill>
                <a:latin typeface="Arial"/>
                <a:ea typeface="Arial"/>
              </a:rPr>
              <a:t>Polymer Dynamics in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39680" y="5079960"/>
            <a:ext cx="894096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  <a:ea typeface="Arial"/>
              </a:rPr>
              <a:t>Paper: Identification of pathways regulating cell size and cell-cycle progression by RNAi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193760" y="5880240"/>
            <a:ext cx="674388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  <a:ea typeface="Arial"/>
              </a:rPr>
              <a:t>Paul Nurse “Controlling the Cell Cycle” !!! </a:t>
            </a:r>
            <a:br>
              <a:rPr sz="2400"/>
            </a:br>
            <a:r>
              <a:rPr b="1" lang="en-US" sz="2400" spc="-1" strike="noStrike">
                <a:solidFill>
                  <a:srgbClr val="00ffff"/>
                </a:solidFill>
                <a:latin typeface="Arial"/>
                <a:ea typeface="Arial"/>
              </a:rPr>
              <a:t>Thu 4 PM, 100 GPB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29877" t="19562" r="30730" b="19562"/>
          <a:stretch/>
        </p:blipFill>
        <p:spPr>
          <a:xfrm>
            <a:off x="5156280" y="1193760"/>
            <a:ext cx="337824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38040" y="1473120"/>
            <a:ext cx="7556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b00"/>
                </a:solidFill>
                <a:latin typeface="Arial"/>
                <a:ea typeface="Arial"/>
              </a:rPr>
              <a:t>Structural scaffol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- cell shape, spatial orga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349720" y="241200"/>
            <a:ext cx="4447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85ff"/>
                </a:solidFill>
                <a:latin typeface="Arial"/>
                <a:ea typeface="Arial"/>
              </a:rPr>
              <a:t>Roles of the Cytoskelet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2413080"/>
            <a:ext cx="822960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b00"/>
                </a:solidFill>
                <a:latin typeface="Arial"/>
                <a:ea typeface="Arial"/>
              </a:rPr>
              <a:t>Dynamic assembli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- movement and force prod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13440" y="2997360"/>
            <a:ext cx="283032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  <a:ea typeface="Arial"/>
              </a:rPr>
              <a:t>cell migr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  <a:ea typeface="Arial"/>
              </a:rPr>
              <a:t>cell 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  <a:ea typeface="Arial"/>
              </a:rPr>
              <a:t>intracellular traffi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  <a:ea typeface="Arial"/>
              </a:rPr>
              <a:t>cont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21520" y="5054760"/>
            <a:ext cx="7486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ytoskeletal functions often involve motor prote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356120" y="266760"/>
            <a:ext cx="6427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85ff"/>
                </a:solidFill>
                <a:latin typeface="Arial"/>
                <a:ea typeface="Arial"/>
              </a:rPr>
              <a:t>3 major elements of the cytoskelet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78000" y="965160"/>
            <a:ext cx="50162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d3bf"/>
                </a:solidFill>
                <a:latin typeface="Arial"/>
                <a:ea typeface="Arial"/>
              </a:rPr>
              <a:t>microtub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α/β tubulin dim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5 nm diame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latively stiff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ollow, 13 protofila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rcRect l="35730" t="13802" r="35367" b="18591"/>
          <a:stretch/>
        </p:blipFill>
        <p:spPr>
          <a:xfrm>
            <a:off x="5676840" y="762120"/>
            <a:ext cx="2629080" cy="4572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rcRect l="33901" t="12738" r="33979" b="0"/>
          <a:stretch/>
        </p:blipFill>
        <p:spPr>
          <a:xfrm rot="16200000">
            <a:off x="1722960" y="3175560"/>
            <a:ext cx="2578320" cy="358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356120" y="266760"/>
            <a:ext cx="6427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85ff"/>
                </a:solidFill>
                <a:latin typeface="Arial"/>
                <a:ea typeface="Arial"/>
              </a:rPr>
              <a:t>3 major elements of the cytoskelet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03040" y="1130400"/>
            <a:ext cx="530892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a7a8"/>
                </a:solidFill>
                <a:latin typeface="Arial"/>
                <a:ea typeface="Arial"/>
              </a:rPr>
              <a:t>microfilaments = actin filaments</a:t>
            </a:r>
            <a:r>
              <a:rPr b="1" lang="en-US" sz="2400" spc="-1" strike="noStrike">
                <a:solidFill>
                  <a:srgbClr val="00a7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ctin mon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7 nm dia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ore flexible – 2 heli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rcRect l="65476" t="13802" r="6178" b="12583"/>
          <a:stretch/>
        </p:blipFill>
        <p:spPr>
          <a:xfrm>
            <a:off x="5892840" y="939960"/>
            <a:ext cx="2577960" cy="49780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rcRect l="67289" t="12423" r="275" b="537"/>
          <a:stretch/>
        </p:blipFill>
        <p:spPr>
          <a:xfrm rot="16200000">
            <a:off x="1803600" y="3123720"/>
            <a:ext cx="2603160" cy="3581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eald Lab</dc:creator>
  <dc:description/>
  <dc:language>en-US</dc:language>
  <cp:lastModifiedBy/>
  <cp:revision>0</cp:revision>
  <dc:subject/>
  <dc:title>No Slide Title</dc:title>
</cp:coreProperties>
</file>